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68040" cy="124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B0DE3-6DB5-4616-BE30-7C21B99F2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9792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97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197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0CA7-5400-4E7A-8860-8714FBAEB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9792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60020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394776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D86E1-F2EC-49C4-97F0-3BE2B66E5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9792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9200" y="160020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0840" y="160020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9200" y="394776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0840" y="3947760"/>
            <a:ext cx="2639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88805-608A-4CB8-A35C-975536D4A2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9792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979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DB311-4BB0-4CFC-8ADD-3D36DA6334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9792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979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CB42-BD13-4A49-A32E-A55AD3B64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9792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60020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EA1A8-D288-47D9-88F8-44D97400C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9792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BCB4A-C62E-4700-9DD1-C45C16F7AB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19792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CE98-A48A-457C-92BA-8596B2E07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9792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60020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AD3E-346B-48A9-AD81-8805093FFA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9792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03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60020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394776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4C673-AC72-4DCB-A7A9-87C381824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9792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600200"/>
            <a:ext cx="40003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197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6E52C-E471-4E14-88FA-3AE38EDA4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9792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979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56520"/>
            <a:ext cx="2119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020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34B59-0BB6-4E25-90A7-009AD9FCF7A4}" type="slidenum">
              <a:rPr b="0" lang="it-IT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s://www.gov.uk/topic/schools-colleges-childrens-services/data-collection-statistical-returns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68360" y="2108160"/>
            <a:ext cx="77724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Sistema inglese di protezione e cura dell’infanzia e adolescenz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227640" y="260280"/>
            <a:ext cx="2467080" cy="961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672000" y="5118120"/>
            <a:ext cx="1866960" cy="1217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87280" y="287280"/>
            <a:ext cx="3957840" cy="100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79640" y="4005360"/>
            <a:ext cx="3470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irenze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, 14 gennaio 2016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Istituto degli Innocent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274680"/>
            <a:ext cx="81993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Organizzazione dei servizi a livello loca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1280" y="5803920"/>
            <a:ext cx="2737080" cy="720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rcRect l="29417" t="0" r="53674" b="0"/>
          <a:stretch/>
        </p:blipFill>
        <p:spPr>
          <a:xfrm>
            <a:off x="7632720" y="5638680"/>
            <a:ext cx="1511280" cy="1052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55640" y="1628640"/>
            <a:ext cx="813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nice di riferimento: Children Act 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overe di salvaguardare e promuovere il benessere dell’infanzi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440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ocesso di verifica dei bisogni a livello locale (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</a:rPr>
              <a:t>local needs assessment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) che deve comunque tenere conto del framework nazionale (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</a:rPr>
              <a:t>Joint strategic needs assessment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pianificazione dei serviz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440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cipio del «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</a:rPr>
              <a:t>check and balance»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controllo reciproco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440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ivelli nella fornitura di servizi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440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1) Assenza di bisogni aggiuntivi – servizi universal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440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2) Bambino con bisogni aggiuntivi – valutato attraverso un CAF (common assessment framework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440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3) Bambino formalmente in stato di bisogno – sezione 17 del Children Act – servizi obbligatori (statutory service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440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4) Bambino a rischio – sezione 47 del Children Ac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440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4680"/>
            <a:ext cx="81993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Principali organismi che si occupano di tutela dell’infanzia a livello locale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(CTB e LSCB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1280" y="5803920"/>
            <a:ext cx="2737080" cy="72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rcRect l="29417" t="0" r="53674" b="0"/>
          <a:stretch/>
        </p:blipFill>
        <p:spPr>
          <a:xfrm>
            <a:off x="7632720" y="5638680"/>
            <a:ext cx="1511280" cy="1052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11280" y="1628640"/>
            <a:ext cx="7921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440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3880" y="1413000"/>
          <a:ext cx="6097320" cy="4123800"/>
        </p:xfrm>
        <a:graphic>
          <a:graphicData uri="http://schemas.openxmlformats.org/drawingml/2006/table">
            <a:tbl>
              <a:tblPr/>
              <a:tblGrid>
                <a:gridCol w="3048480"/>
                <a:gridCol w="3048840"/>
              </a:tblGrid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dren’s Trust Boards (CTB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l Safeguarding Children’s Board (LSCB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77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olo di coordinamento a livello locale dei servizi per l’infanzia che si rivolgono a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tti bambini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n la riforma Cameron non sono più obbligator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olo di coordinamento a livello locale dei servizi di protezione dell’infanzia –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mbini in situazioni di rischi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77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sizione: servizi sociali, consigli di quartiere, unità sanitarie, polizia, giustizia minorile, servizi per la prima infanzia, scuole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sizione: enti locali, polizia, sistema sanitario, giustizia minori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74680"/>
            <a:ext cx="81993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Ruolo terzo settore nella fornitura di servizi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1280" y="5803920"/>
            <a:ext cx="2737080" cy="720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29417" t="0" r="53674" b="0"/>
          <a:stretch/>
        </p:blipFill>
        <p:spPr>
          <a:xfrm>
            <a:off x="7632720" y="5638680"/>
            <a:ext cx="1511280" cy="1052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6560" y="1052640"/>
            <a:ext cx="7921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Crescente privatizzazion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ia per motivi di costi che per la filosofia generale del sistem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Ente locale mantiene alcuni servizi fondamentali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Ente locale può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commissionar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una serie di servizi al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privato social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ma anche a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enti con fine di lucro</a:t>
            </a: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(es. nell’ambito dei minori posti fuori dalla famiglia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er gli 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statutory services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esistono comunque i controlli di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Ofste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Meccanismi congiunti di programmazion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voluntary sector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siede normalmente nel CTB o altri organismi consultiv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2633760" y="4773600"/>
            <a:ext cx="4098960" cy="1608120"/>
          </a:xfrm>
          <a:prstGeom prst="pie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2700000"/>
          </a:gra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«Principio alla base: influenza reciproca tra settore pubblico e privato, non un controllo del pubblico sul privato»  (vice-direttore servizi Merton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74680"/>
            <a:ext cx="81993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Procedure di protezione dell’infanzia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a livello locale (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280" y="5803920"/>
            <a:ext cx="2737080" cy="720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29417" t="0" r="53674" b="0"/>
          <a:stretch/>
        </p:blipFill>
        <p:spPr>
          <a:xfrm>
            <a:off x="7632720" y="5638680"/>
            <a:ext cx="1511280" cy="1052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11280" y="141300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ddove i servizi per l’infanzia hanno motivi ragionevoli per sospettare che un bambino stia subendo, o è probabile che subisca u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anno significativo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significant harm), hanno il dovere di iniziar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un’inchiesta per la protezione dell’infanzi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(child protection enquiry)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 prima fase dell’inchiesta viene svolta da u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ssistente sociale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l fine di determinare se sussistono i criteri legislativi per l’intervento.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grafico 4)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opo questa prima fase l’inchiesta si può concludere se tali criteri non sussistono oppure può passare ad un altro servizio di supporto familiare se il bambino viene considerato i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tato di necessità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ma non a rischio di danno significativo oppure un’ulteriore inchiesta può essere richiesta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ddove sussiste un reato la polizia deve essere informata. Esiste inoltre una procedura di emergenza. (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</a:rPr>
              <a:t>Emergency Procedure Orders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).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grafico 5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440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274680"/>
            <a:ext cx="81993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Procedure di protezione dell’infanzia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a livello locale (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1280" y="5803920"/>
            <a:ext cx="2737080" cy="72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29417" t="0" r="53674" b="0"/>
          <a:stretch/>
        </p:blipFill>
        <p:spPr>
          <a:xfrm>
            <a:off x="7632720" y="5638680"/>
            <a:ext cx="1511280" cy="1052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11280" y="1413000"/>
            <a:ext cx="799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e un danno significativo o il rischio di danno significativo è stato accertato una strategia deve essere messa a punto attraverso il coinvolgimento dei servizi sociali, la polizia ed altre agenzi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uccessivamente se il bambino viene ancora considerato a rischio, una </a:t>
            </a:r>
            <a:r>
              <a:rPr b="1" i="1" lang="it-IT" sz="1800" spc="-1" strike="noStrike">
                <a:solidFill>
                  <a:srgbClr val="000000"/>
                </a:solidFill>
                <a:latin typeface="Calibri"/>
              </a:rPr>
              <a:t>child protection case conferenc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può essere convocata entro 15 giorni dalla prima discussione. La conference mette assieme gli operatori, i componenti della famiglia e i bambini stessi nel caso siano abbastanza grandi. Durante la conferenza gli operatori decidono se registrare il piano per il bambino a rischio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e questo avviene, deve essere sviluppato un piano per il bambino di cui normalmente è responsabile un assistente sociale. Le case conferences per rivedere il caso avvengono tre mesi dopo la prima conferenza e successivamente ogni 6 mesi se il piano per il bambino viene confermato. Il nome del bambino viene cancellato una volta che il bambino non viene più considerato in stato di necessità.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grafico 8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440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274680"/>
            <a:ext cx="81993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Family Group Conference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1280" y="5803920"/>
            <a:ext cx="273708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29417" t="0" r="53674" b="0"/>
          <a:stretch/>
        </p:blipFill>
        <p:spPr>
          <a:xfrm>
            <a:off x="7632720" y="5638680"/>
            <a:ext cx="1511280" cy="1052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26920" y="1197000"/>
            <a:ext cx="806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involgimento dell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rete familiare estesa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nella redazione di un piano per il benessere del bambino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Utilizza 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unti di forza delle famiglie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nella risoluzione delle difficoltà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estita da u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facilitatore ester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Utilizzo in molte situazioni diverse tranne nei casi di abuso o rischio di violenz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440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440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3141720"/>
            <a:ext cx="4032000" cy="2016000"/>
          </a:xfrm>
          <a:prstGeom prst="ellipse">
            <a:avLst/>
          </a:prstGeom>
          <a:solidFill>
            <a:srgbClr val="d6d6f5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cipi base: empowerment della famiglia e correzione dello squilibrio di potere nella relazione con le autorità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3228840"/>
            <a:ext cx="2735280" cy="2409840"/>
          </a:xfrm>
          <a:prstGeom prst="rect">
            <a:avLst/>
          </a:prstGeom>
          <a:solidFill>
            <a:srgbClr val="c2fff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ifferenza con 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</a:rPr>
              <a:t>protection case conferenc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: i responsabili della definizione del piano sono gli operatori degli enti locali. Nella FGC sono i componenti stessi della famiglia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274680"/>
            <a:ext cx="81993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Family Group Conference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1280" y="5803920"/>
            <a:ext cx="2737080" cy="720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rcRect l="29417" t="0" r="53674" b="0"/>
          <a:stretch/>
        </p:blipFill>
        <p:spPr>
          <a:xfrm>
            <a:off x="7632720" y="5638680"/>
            <a:ext cx="1511280" cy="1052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187280" y="11016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11280" y="907920"/>
            <a:ext cx="5464080" cy="4616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435640" y="1197000"/>
            <a:ext cx="3430440" cy="2879640"/>
          </a:xfrm>
          <a:prstGeom prst="pie">
            <a:avLst/>
          </a:prstGeom>
          <a:solidFill>
            <a:srgbClr val="d6d6f5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«siamo veramente preoccupati per tuo figlio e crediamo che il tuo comportamento stia contribuendo a questo, ma vogliamo sapere cosa ne pensi e formulare assieme un piano in risposta a questi problemi» (Direttore servizi Leeds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2627280" y="4824360"/>
            <a:ext cx="4753080" cy="1917720"/>
          </a:xfrm>
          <a:prstGeom prst="pie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2700000"/>
          </a:gra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«Molte autorità locali fanno molte FGC ma non implementano il piano di protezione del bambino, in questo modo tutto il processo è inutile, si buttano via i soldi. Il costo medio di una FGC è 1000 £.»  (vice-direttore servizi Merton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274680"/>
            <a:ext cx="81993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1280" y="5803920"/>
            <a:ext cx="2737080" cy="720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rcRect l="29417" t="0" r="53674" b="0"/>
          <a:stretch/>
        </p:blipFill>
        <p:spPr>
          <a:xfrm>
            <a:off x="7632720" y="5638680"/>
            <a:ext cx="1511280" cy="1052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27120" y="21826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Grazie per l’attenzione 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1993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Metodologia di ricerc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1280" y="5803920"/>
            <a:ext cx="2737080" cy="72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rcRect l="29417" t="0" r="53674" b="0"/>
          <a:stretch/>
        </p:blipFill>
        <p:spPr>
          <a:xfrm>
            <a:off x="7632720" y="5638680"/>
            <a:ext cx="1511280" cy="1052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6640" y="1413000"/>
            <a:ext cx="777744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Ricerca di tipo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ocumentale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bibliografico e sitografico): consultazione dei cataloghi italiani e internazional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Biblioteca Innocenti Library 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 di siti inglesi istituzionali e n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440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nterviste in loco a testimoni privilegiat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440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responsabili di alcuni servizi per l'infanzia di livello local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(della città di Leeds e municipalità di Merton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440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esperti di livello accademic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(Prof. Harriet Ward, direttrice del Centre for Child and Family Research dell'Università di Loughborough; Prof. David Berridge, docente in Welfare familiare e dell'infanzia dell'Università di Bristol; Prof. Elaine Farmer, docente in Studi sull'infanzia e la famiglia dell'Università di Bristol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440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onsulenti governativ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(Dr. Jenny Gray, già consulente del Dipartimento per l’Educazione e rappresentante per il Regno Unito del network ChildONEurope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440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- rappresentanti dell'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Ofst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440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- rappresentanti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ssociazioni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operanti nella promozione dei diritti dell'infanzia (Barnardos e Children Society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440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274680"/>
            <a:ext cx="81993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ocus presentazio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280" y="5803920"/>
            <a:ext cx="2737080" cy="720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29417" t="0" r="53674" b="0"/>
          <a:stretch/>
        </p:blipFill>
        <p:spPr>
          <a:xfrm>
            <a:off x="7632720" y="5638680"/>
            <a:ext cx="1511280" cy="1052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11280" y="1996920"/>
            <a:ext cx="777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Calibri"/>
              <a:buAutoNum type="arabicParenR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rmative nazionali di riferiment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Calibri"/>
              <a:buAutoNum type="arabicParenR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stema di monitoraggio e procedure ispettiv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Calibri"/>
              <a:buAutoNum type="arabicParenR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dure di protezione dell’infanzia a livello loc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Calibri"/>
              <a:buAutoNum type="arabicParenR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mily Group Conferenc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74680"/>
            <a:ext cx="81993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Principali normative di riferiment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1280" y="5803920"/>
            <a:ext cx="2737080" cy="720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rcRect l="29417" t="0" r="53674" b="0"/>
          <a:stretch/>
        </p:blipFill>
        <p:spPr>
          <a:xfrm>
            <a:off x="7632720" y="5638680"/>
            <a:ext cx="1511280" cy="1052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95280" y="1557360"/>
            <a:ext cx="777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rmative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ldren Act, 198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ldren Act, 200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ldcare Act, 200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ldren and Families Act, 201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ocumenti di policy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ery Child Matters, 200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ing Together to Safeguard Children 2006, rivista nel 201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ery Parent Matters, 2007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he Children’s Plan: Building brighter futures, 2007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3311640" y="4508640"/>
            <a:ext cx="4321080" cy="2038320"/>
          </a:xfrm>
          <a:prstGeom prst="pie">
            <a:avLst/>
          </a:prstGeom>
          <a:solidFill>
            <a:srgbClr val="cceed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«Piano nazionale: caduto in disuso con il nuovo governo, non esiste un obbligo di redigere un piano nazionale ogni tot anni» (Jenny Gray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1993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hildren Ac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1280" y="5803920"/>
            <a:ext cx="273708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29417" t="0" r="53674" b="0"/>
          <a:stretch/>
        </p:blipFill>
        <p:spPr>
          <a:xfrm>
            <a:off x="7632720" y="5638680"/>
            <a:ext cx="1511280" cy="1052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26920" y="134136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5 obiettivi relativi al benessere dell’infanzia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obbligo per gli enti local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: salute fisica e mentale, benessere emotivo; protezione dal danno e dall’abuso, maltrattamento e trascuratezza; istruzione, formazione e attività ricreative; contributo dei bambini alla società; benessere sociale ed economico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efinisce i criteri per l’intervento nella vita familiare al fine di proteggere i bambini da situazioni di abuso e negligenza e fornisce le definizioni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anno significativ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(“significant harm”) 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bambini in situazioni di bisogno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“children in need”)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440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2627280" y="4292640"/>
            <a:ext cx="4321080" cy="2111400"/>
          </a:xfrm>
          <a:prstGeom prst="pie">
            <a:avLst/>
          </a:prstGeom>
          <a:solidFill>
            <a:srgbClr val="d6d6f5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it-IT" sz="1600" spc="-1" strike="noStrike">
                <a:solidFill>
                  <a:srgbClr val="000000"/>
                </a:solidFill>
                <a:latin typeface="Calibri"/>
              </a:rPr>
              <a:t>Outcome-based accountability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» - gli enti locali sono chiamati a implementare i 5 obiettivi relativi al benessere – base per la programmazione locale (direttore servizi Leeds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274680"/>
            <a:ext cx="81993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hildren Act 200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1280" y="5803920"/>
            <a:ext cx="2737080" cy="720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rcRect l="29417" t="0" r="53674" b="0"/>
          <a:stretch/>
        </p:blipFill>
        <p:spPr>
          <a:xfrm>
            <a:off x="7632720" y="5638680"/>
            <a:ext cx="1511280" cy="1052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4360" y="1557360"/>
            <a:ext cx="813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troduzione de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Children’s Trusts Boards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ocal Safeguarding Children Boards (LSCB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obbligo di nomina da parte di tutti gli enti locali che hanno servizi per l’infanzia di u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irettore dei Servizi per l’infanzia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obbligo per gli enti locali di redigere u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iano per i bambini e i giovan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Children and Young People’s Plan) – successivamente revocat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realizzazione di u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atabase nazional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realizzazione di u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framework integrato di ispezione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he deve essere svolto da ispettorati indipendent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overe da parte delle autorità locali che lavorano con i bambini in condizione di bisogno che i loro desideri e sentimenti siano ascoltati e tenuti in considerazione nella presa di decision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stituzione del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Children’s Commissioner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440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274680"/>
            <a:ext cx="81993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Sistema di monitoraggi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1280" y="5803920"/>
            <a:ext cx="2737080" cy="720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rcRect l="29417" t="0" r="53674" b="0"/>
          <a:stretch/>
        </p:blipFill>
        <p:spPr>
          <a:xfrm>
            <a:off x="7632720" y="5638680"/>
            <a:ext cx="1511280" cy="1052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4360" y="1484280"/>
            <a:ext cx="770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istema di raccolta dati su servizi, scuole, servizi per la prima infanzi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440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https://www.gov.uk/topic/schools-colleges-childrens-services/data-collection-statistical-return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440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Nuovo sistema informativo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SDA903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gestito dal Dipartimento per l’educazione su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inori collocati fuori famigli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440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Ogni bambino/adolescente ha un file elettronico che raccoglie informazioni molto specifiche sulle condizioni di vita dei ragazzi e sui loro risultati una volta usciti dal sistema di collocamento fuori famigli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440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440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lla fine di ogni anno gli enti locali devono inviare un rapporto al governo centrale, che a sua volta produce un rapporto complessivo in primaver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440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Raccolta dati sull’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ppartenenza etnica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segue le  classificazioni del censimento) ha lo scopo di verificare che nella fornitura di servizi non vengano operate discriminazion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440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274680"/>
            <a:ext cx="81993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Sistema di controllo e ispezione: il ruolo dell’Ofsted</a:t>
            </a:r>
            <a:br>
              <a:rPr sz="44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Office for Standards in Education, Children’s Services and Skill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280" y="5803920"/>
            <a:ext cx="2737080" cy="720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29417" t="0" r="53674" b="0"/>
          <a:stretch/>
        </p:blipFill>
        <p:spPr>
          <a:xfrm>
            <a:off x="7632720" y="5638680"/>
            <a:ext cx="1511280" cy="1052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1773360"/>
            <a:ext cx="77043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libri"/>
              </a:rPr>
              <a:t>Organismo governativo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che riceve fondi dal Governo ma considerato </a:t>
            </a:r>
            <a:r>
              <a:rPr b="1" lang="it-IT" sz="2200" spc="-1" strike="noStrike">
                <a:solidFill>
                  <a:srgbClr val="000000"/>
                </a:solidFill>
                <a:latin typeface="Calibri"/>
              </a:rPr>
              <a:t>indipendente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e imparziale [ma esistono possibili tensioni]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Relaziona al Parlamento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Potere di </a:t>
            </a:r>
            <a:r>
              <a:rPr b="1" lang="it-IT" sz="2200" spc="-1" strike="noStrike">
                <a:solidFill>
                  <a:srgbClr val="000000"/>
                </a:solidFill>
                <a:latin typeface="Calibri"/>
              </a:rPr>
              <a:t>controllo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 e </a:t>
            </a:r>
            <a:r>
              <a:rPr b="1" lang="it-IT" sz="2200" spc="-1" strike="noStrike">
                <a:solidFill>
                  <a:srgbClr val="000000"/>
                </a:solidFill>
                <a:latin typeface="Calibri"/>
              </a:rPr>
              <a:t>regolamentazione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 dei servizi che si occupano dei bambini e dei giovani, e di quelli relativi all’istruzione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Reali poteri di </a:t>
            </a:r>
            <a:r>
              <a:rPr b="1" lang="it-IT" sz="2200" spc="-1" strike="noStrike">
                <a:solidFill>
                  <a:srgbClr val="000000"/>
                </a:solidFill>
                <a:latin typeface="Calibri"/>
              </a:rPr>
              <a:t>sanzion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Lavora </a:t>
            </a:r>
            <a:r>
              <a:rPr b="1" lang="it-IT" sz="2200" spc="-1" strike="noStrike">
                <a:solidFill>
                  <a:srgbClr val="000000"/>
                </a:solidFill>
                <a:latin typeface="Calibri"/>
              </a:rPr>
              <a:t>con i servizi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al fine di promuovere il loro miglioramento monitorando i loro progressi e condividendo le migliori pratich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5288040"/>
            <a:ext cx="3006720" cy="1236600"/>
          </a:xfrm>
          <a:prstGeom prst="pie">
            <a:avLst/>
          </a:prstGeom>
          <a:solidFill>
            <a:srgbClr val="c2fff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</a:rPr>
              <a:t>We are going to report without fear or favor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»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274680"/>
            <a:ext cx="81993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Ofsted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280" y="5803920"/>
            <a:ext cx="2737080" cy="720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29417" t="0" r="53674" b="0"/>
          <a:stretch/>
        </p:blipFill>
        <p:spPr>
          <a:xfrm>
            <a:off x="7632720" y="5638680"/>
            <a:ext cx="1511280" cy="1052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9600" y="1050840"/>
            <a:ext cx="770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Potere di regolamentazione –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servizi devono registrarsi presso l’Ofsted che controlla i requisiti essenziali e può rifiutare l’accreditamento (personale/servizi/spazi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Potere di controllo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- Ispezioni: senza (o con breve) preavviso (Coinvolgimento di bambini e ragazzi nel processo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- Possibilità di portare davanti a un tribunale un servizio e chiudere un servizio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116000" y="4100400"/>
            <a:ext cx="2819520" cy="1832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427640" y="429264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Calibri"/>
              <a:buChar char="-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ane: attività di controllo (tribunale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buClr>
                <a:srgbClr val="000000"/>
              </a:buClr>
              <a:buFont typeface="Calibri"/>
              <a:buChar char="-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Marmellata: ispezion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4040" indent="-284040">
              <a:buClr>
                <a:srgbClr val="000000"/>
              </a:buClr>
              <a:buFont typeface="Calibri"/>
              <a:buChar char="-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ane: accreditament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0T09:56:15Z</dcterms:created>
  <dc:creator>Bianchi Donata</dc:creator>
  <dc:description/>
  <dc:language>en-US</dc:language>
  <cp:lastModifiedBy>Erika Bernacchi</cp:lastModifiedBy>
  <dcterms:modified xsi:type="dcterms:W3CDTF">2016-01-08T12:11:41Z</dcterms:modified>
  <cp:revision>56</cp:revision>
  <dc:subject/>
  <dc:title>TAVOLO DI COORDINAMENTO TRA MINISTERO DEL LAVORO E DELLE POLITICHE SOCIALI E  LE  CITTA’ RISERVATARIE AI SENSI DELLA LEGGE 285/97  INCONTRO TECNICO  ROMA, 29 MAGGIO 2014</dc:title>
</cp:coreProperties>
</file>