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89600" cy="9925200"/>
          </a:xfrm>
          <a:custGeom>
            <a:avLst/>
            <a:gdLst>
              <a:gd name="textAreaLeft" fmla="*/ 360 w 6789600"/>
              <a:gd name="textAreaRight" fmla="*/ 6789240 w 67896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75">
                <a:moveTo>
                  <a:pt x="5" y="0"/>
                </a:moveTo>
                <a:arcTo wR="5" hR="5" stAng="16200000" swAng="-5400000"/>
                <a:lnTo>
                  <a:pt x="0" y="31570"/>
                </a:lnTo>
                <a:arcTo wR="5" hR="5" stAng="10800000" swAng="-5400000"/>
                <a:lnTo>
                  <a:pt x="21595" y="315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88160" cy="9923400"/>
          </a:xfrm>
          <a:custGeom>
            <a:avLst/>
            <a:gdLst>
              <a:gd name="textAreaLeft" fmla="*/ 360 w 6788160"/>
              <a:gd name="textAreaRight" fmla="*/ 6787800 w 6788160"/>
              <a:gd name="textAreaTop" fmla="*/ 360 h 9923400"/>
              <a:gd name="textAreaBottom" fmla="*/ 9923040 h 9923400"/>
            </a:gdLst>
            <a:ahLst/>
            <a:rect l="textAreaLeft" t="textAreaTop" r="textAreaRight" b="textAreaBottom"/>
            <a:pathLst>
              <a:path w="21600" h="31576">
                <a:moveTo>
                  <a:pt x="5" y="0"/>
                </a:moveTo>
                <a:arcTo wR="5" hR="5" stAng="16200000" swAng="-5400000"/>
                <a:lnTo>
                  <a:pt x="0" y="31571"/>
                </a:lnTo>
                <a:arcTo wR="5" hR="5" stAng="10800000" swAng="-5400000"/>
                <a:lnTo>
                  <a:pt x="21595" y="315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88160" cy="9923400"/>
          </a:xfrm>
          <a:custGeom>
            <a:avLst/>
            <a:gdLst>
              <a:gd name="textAreaLeft" fmla="*/ 360 w 6788160"/>
              <a:gd name="textAreaRight" fmla="*/ 6787800 w 6788160"/>
              <a:gd name="textAreaTop" fmla="*/ 360 h 9923400"/>
              <a:gd name="textAreaBottom" fmla="*/ 9923040 h 9923400"/>
            </a:gdLst>
            <a:ahLst/>
            <a:rect l="textAreaLeft" t="textAreaTop" r="textAreaRight" b="textAreaBottom"/>
            <a:pathLst>
              <a:path w="21600" h="31576">
                <a:moveTo>
                  <a:pt x="5" y="0"/>
                </a:moveTo>
                <a:arcTo wR="5" hR="5" stAng="16200000" swAng="-5400000"/>
                <a:lnTo>
                  <a:pt x="0" y="31571"/>
                </a:lnTo>
                <a:arcTo wR="5" hR="5" stAng="10800000" swAng="-5400000"/>
                <a:lnTo>
                  <a:pt x="21595" y="315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88160" cy="9923400"/>
          </a:xfrm>
          <a:custGeom>
            <a:avLst/>
            <a:gdLst>
              <a:gd name="textAreaLeft" fmla="*/ 360 w 6788160"/>
              <a:gd name="textAreaRight" fmla="*/ 6787800 w 6788160"/>
              <a:gd name="textAreaTop" fmla="*/ 360 h 9923400"/>
              <a:gd name="textAreaBottom" fmla="*/ 9923040 h 9923400"/>
            </a:gdLst>
            <a:ahLst/>
            <a:rect l="textAreaLeft" t="textAreaTop" r="textAreaRight" b="textAreaBottom"/>
            <a:pathLst>
              <a:path w="21600" h="31576">
                <a:moveTo>
                  <a:pt x="5" y="0"/>
                </a:moveTo>
                <a:arcTo wR="5" hR="5" stAng="16200000" swAng="-5400000"/>
                <a:lnTo>
                  <a:pt x="0" y="31571"/>
                </a:lnTo>
                <a:arcTo wR="5" hR="5" stAng="10800000" swAng="-5400000"/>
                <a:lnTo>
                  <a:pt x="21595" y="315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88160" cy="9923400"/>
          </a:xfrm>
          <a:custGeom>
            <a:avLst/>
            <a:gdLst>
              <a:gd name="textAreaLeft" fmla="*/ 360 w 6788160"/>
              <a:gd name="textAreaRight" fmla="*/ 6787800 w 6788160"/>
              <a:gd name="textAreaTop" fmla="*/ 360 h 9923400"/>
              <a:gd name="textAreaBottom" fmla="*/ 9923040 h 9923400"/>
            </a:gdLst>
            <a:ahLst/>
            <a:rect l="textAreaLeft" t="textAreaTop" r="textAreaRight" b="textAreaBottom"/>
            <a:pathLst>
              <a:path w="21600" h="31576">
                <a:moveTo>
                  <a:pt x="5" y="0"/>
                </a:moveTo>
                <a:arcTo wR="5" hR="5" stAng="16200000" swAng="-5400000"/>
                <a:lnTo>
                  <a:pt x="0" y="31571"/>
                </a:lnTo>
                <a:arcTo wR="5" hR="5" stAng="10800000" swAng="-5400000"/>
                <a:lnTo>
                  <a:pt x="21595" y="315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788160" cy="9923400"/>
          </a:xfrm>
          <a:custGeom>
            <a:avLst/>
            <a:gdLst>
              <a:gd name="textAreaLeft" fmla="*/ 360 w 6788160"/>
              <a:gd name="textAreaRight" fmla="*/ 6787800 w 6788160"/>
              <a:gd name="textAreaTop" fmla="*/ 360 h 9923400"/>
              <a:gd name="textAreaBottom" fmla="*/ 9923040 h 9923400"/>
            </a:gdLst>
            <a:ahLst/>
            <a:rect l="textAreaLeft" t="textAreaTop" r="textAreaRight" b="textAreaBottom"/>
            <a:pathLst>
              <a:path w="21600" h="31576">
                <a:moveTo>
                  <a:pt x="5" y="0"/>
                </a:moveTo>
                <a:arcTo wR="5" hR="5" stAng="16200000" swAng="-5400000"/>
                <a:lnTo>
                  <a:pt x="0" y="31571"/>
                </a:lnTo>
                <a:arcTo wR="5" hR="5" stAng="10800000" swAng="-5400000"/>
                <a:lnTo>
                  <a:pt x="21595" y="315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788160" cy="9923400"/>
          </a:xfrm>
          <a:custGeom>
            <a:avLst/>
            <a:gdLst>
              <a:gd name="textAreaLeft" fmla="*/ 360 w 6788160"/>
              <a:gd name="textAreaRight" fmla="*/ 6787800 w 6788160"/>
              <a:gd name="textAreaTop" fmla="*/ 360 h 9923400"/>
              <a:gd name="textAreaBottom" fmla="*/ 9923040 h 9923400"/>
            </a:gdLst>
            <a:ahLst/>
            <a:rect l="textAreaLeft" t="textAreaTop" r="textAreaRight" b="textAreaBottom"/>
            <a:pathLst>
              <a:path w="21600" h="31576">
                <a:moveTo>
                  <a:pt x="5" y="0"/>
                </a:moveTo>
                <a:arcTo wR="5" hR="5" stAng="16200000" swAng="-5400000"/>
                <a:lnTo>
                  <a:pt x="0" y="31571"/>
                </a:lnTo>
                <a:arcTo wR="5" hR="5" stAng="10800000" swAng="-5400000"/>
                <a:lnTo>
                  <a:pt x="21595" y="315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788160" cy="9923400"/>
          </a:xfrm>
          <a:custGeom>
            <a:avLst/>
            <a:gdLst>
              <a:gd name="textAreaLeft" fmla="*/ 360 w 6788160"/>
              <a:gd name="textAreaRight" fmla="*/ 6787800 w 6788160"/>
              <a:gd name="textAreaTop" fmla="*/ 360 h 9923400"/>
              <a:gd name="textAreaBottom" fmla="*/ 9923040 h 9923400"/>
            </a:gdLst>
            <a:ahLst/>
            <a:rect l="textAreaLeft" t="textAreaTop" r="textAreaRight" b="textAreaBottom"/>
            <a:pathLst>
              <a:path w="21600" h="31576">
                <a:moveTo>
                  <a:pt x="5" y="0"/>
                </a:moveTo>
                <a:arcTo wR="5" hR="5" stAng="16200000" swAng="-5400000"/>
                <a:lnTo>
                  <a:pt x="0" y="31571"/>
                </a:lnTo>
                <a:arcTo wR="5" hR="5" stAng="10800000" swAng="-5400000"/>
                <a:lnTo>
                  <a:pt x="21595" y="315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788160" cy="9923400"/>
          </a:xfrm>
          <a:custGeom>
            <a:avLst/>
            <a:gdLst>
              <a:gd name="textAreaLeft" fmla="*/ 360 w 6788160"/>
              <a:gd name="textAreaRight" fmla="*/ 6787800 w 6788160"/>
              <a:gd name="textAreaTop" fmla="*/ 360 h 9923400"/>
              <a:gd name="textAreaBottom" fmla="*/ 9923040 h 9923400"/>
            </a:gdLst>
            <a:ahLst/>
            <a:rect l="textAreaLeft" t="textAreaTop" r="textAreaRight" b="textAreaBottom"/>
            <a:pathLst>
              <a:path w="21600" h="31576">
                <a:moveTo>
                  <a:pt x="5" y="0"/>
                </a:moveTo>
                <a:arcTo wR="5" hR="5" stAng="16200000" swAng="-5400000"/>
                <a:lnTo>
                  <a:pt x="0" y="31571"/>
                </a:lnTo>
                <a:arcTo wR="5" hR="5" stAng="10800000" swAng="-5400000"/>
                <a:lnTo>
                  <a:pt x="21595" y="315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788160" cy="9923400"/>
          </a:xfrm>
          <a:custGeom>
            <a:avLst/>
            <a:gdLst>
              <a:gd name="textAreaLeft" fmla="*/ 360 w 6788160"/>
              <a:gd name="textAreaRight" fmla="*/ 6787800 w 6788160"/>
              <a:gd name="textAreaTop" fmla="*/ 360 h 9923400"/>
              <a:gd name="textAreaBottom" fmla="*/ 9923040 h 9923400"/>
            </a:gdLst>
            <a:ahLst/>
            <a:rect l="textAreaLeft" t="textAreaTop" r="textAreaRight" b="textAreaBottom"/>
            <a:pathLst>
              <a:path w="21600" h="31576">
                <a:moveTo>
                  <a:pt x="5" y="0"/>
                </a:moveTo>
                <a:arcTo wR="5" hR="5" stAng="16200000" swAng="-5400000"/>
                <a:lnTo>
                  <a:pt x="0" y="31571"/>
                </a:lnTo>
                <a:arcTo wR="5" hR="5" stAng="10800000" swAng="-5400000"/>
                <a:lnTo>
                  <a:pt x="21595" y="315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788160" cy="9923400"/>
          </a:xfrm>
          <a:custGeom>
            <a:avLst/>
            <a:gdLst>
              <a:gd name="textAreaLeft" fmla="*/ 360 w 6788160"/>
              <a:gd name="textAreaRight" fmla="*/ 6787800 w 6788160"/>
              <a:gd name="textAreaTop" fmla="*/ 360 h 9923400"/>
              <a:gd name="textAreaBottom" fmla="*/ 9923040 h 9923400"/>
            </a:gdLst>
            <a:ahLst/>
            <a:rect l="textAreaLeft" t="textAreaTop" r="textAreaRight" b="textAreaBottom"/>
            <a:pathLst>
              <a:path w="21600" h="31576">
                <a:moveTo>
                  <a:pt x="5" y="0"/>
                </a:moveTo>
                <a:arcTo wR="5" hR="5" stAng="16200000" swAng="-5400000"/>
                <a:lnTo>
                  <a:pt x="0" y="31571"/>
                </a:lnTo>
                <a:arcTo wR="5" hR="5" stAng="10800000" swAng="-5400000"/>
                <a:lnTo>
                  <a:pt x="21595" y="315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788160" cy="9923400"/>
          </a:xfrm>
          <a:custGeom>
            <a:avLst/>
            <a:gdLst>
              <a:gd name="textAreaLeft" fmla="*/ 360 w 6788160"/>
              <a:gd name="textAreaRight" fmla="*/ 6787800 w 6788160"/>
              <a:gd name="textAreaTop" fmla="*/ 360 h 9923400"/>
              <a:gd name="textAreaBottom" fmla="*/ 9923040 h 9923400"/>
            </a:gdLst>
            <a:ahLst/>
            <a:rect l="textAreaLeft" t="textAreaTop" r="textAreaRight" b="textAreaBottom"/>
            <a:pathLst>
              <a:path w="21600" h="31576">
                <a:moveTo>
                  <a:pt x="5" y="0"/>
                </a:moveTo>
                <a:arcTo wR="5" hR="5" stAng="16200000" swAng="-5400000"/>
                <a:lnTo>
                  <a:pt x="0" y="31571"/>
                </a:lnTo>
                <a:arcTo wR="5" hR="5" stAng="10800000" swAng="-5400000"/>
                <a:lnTo>
                  <a:pt x="21595" y="315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788160" cy="9923400"/>
          </a:xfrm>
          <a:custGeom>
            <a:avLst/>
            <a:gdLst>
              <a:gd name="textAreaLeft" fmla="*/ 360 w 6788160"/>
              <a:gd name="textAreaRight" fmla="*/ 6787800 w 6788160"/>
              <a:gd name="textAreaTop" fmla="*/ 360 h 9923400"/>
              <a:gd name="textAreaBottom" fmla="*/ 9923040 h 9923400"/>
            </a:gdLst>
            <a:ahLst/>
            <a:rect l="textAreaLeft" t="textAreaTop" r="textAreaRight" b="textAreaBottom"/>
            <a:pathLst>
              <a:path w="21600" h="31576">
                <a:moveTo>
                  <a:pt x="5" y="0"/>
                </a:moveTo>
                <a:arcTo wR="5" hR="5" stAng="16200000" swAng="-5400000"/>
                <a:lnTo>
                  <a:pt x="0" y="31571"/>
                </a:lnTo>
                <a:arcTo wR="5" hR="5" stAng="10800000" swAng="-5400000"/>
                <a:lnTo>
                  <a:pt x="21595" y="315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788160" cy="9923400"/>
          </a:xfrm>
          <a:custGeom>
            <a:avLst/>
            <a:gdLst>
              <a:gd name="textAreaLeft" fmla="*/ 360 w 6788160"/>
              <a:gd name="textAreaRight" fmla="*/ 6787800 w 6788160"/>
              <a:gd name="textAreaTop" fmla="*/ 360 h 9923400"/>
              <a:gd name="textAreaBottom" fmla="*/ 9923040 h 9923400"/>
            </a:gdLst>
            <a:ahLst/>
            <a:rect l="textAreaLeft" t="textAreaTop" r="textAreaRight" b="textAreaBottom"/>
            <a:pathLst>
              <a:path w="21600" h="31576">
                <a:moveTo>
                  <a:pt x="5" y="0"/>
                </a:moveTo>
                <a:arcTo wR="5" hR="5" stAng="16200000" swAng="-5400000"/>
                <a:lnTo>
                  <a:pt x="0" y="31571"/>
                </a:lnTo>
                <a:arcTo wR="5" hR="5" stAng="10800000" swAng="-5400000"/>
                <a:lnTo>
                  <a:pt x="21595" y="315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788160" cy="9923400"/>
          </a:xfrm>
          <a:custGeom>
            <a:avLst/>
            <a:gdLst>
              <a:gd name="textAreaLeft" fmla="*/ 360 w 6788160"/>
              <a:gd name="textAreaRight" fmla="*/ 6787800 w 6788160"/>
              <a:gd name="textAreaTop" fmla="*/ 360 h 9923400"/>
              <a:gd name="textAreaBottom" fmla="*/ 9923040 h 9923400"/>
            </a:gdLst>
            <a:ahLst/>
            <a:rect l="textAreaLeft" t="textAreaTop" r="textAreaRight" b="textAreaBottom"/>
            <a:pathLst>
              <a:path w="21600" h="31576">
                <a:moveTo>
                  <a:pt x="5" y="0"/>
                </a:moveTo>
                <a:arcTo wR="5" hR="5" stAng="16200000" swAng="-5400000"/>
                <a:lnTo>
                  <a:pt x="0" y="31571"/>
                </a:lnTo>
                <a:arcTo wR="5" hR="5" stAng="10800000" swAng="-5400000"/>
                <a:lnTo>
                  <a:pt x="21595" y="315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788160" cy="9923400"/>
          </a:xfrm>
          <a:custGeom>
            <a:avLst/>
            <a:gdLst>
              <a:gd name="textAreaLeft" fmla="*/ 360 w 6788160"/>
              <a:gd name="textAreaRight" fmla="*/ 6787800 w 6788160"/>
              <a:gd name="textAreaTop" fmla="*/ 360 h 9923400"/>
              <a:gd name="textAreaBottom" fmla="*/ 9923040 h 9923400"/>
            </a:gdLst>
            <a:ahLst/>
            <a:rect l="textAreaLeft" t="textAreaTop" r="textAreaRight" b="textAreaBottom"/>
            <a:pathLst>
              <a:path w="21600" h="31576">
                <a:moveTo>
                  <a:pt x="5" y="0"/>
                </a:moveTo>
                <a:arcTo wR="5" hR="5" stAng="16200000" swAng="-5400000"/>
                <a:lnTo>
                  <a:pt x="0" y="31571"/>
                </a:lnTo>
                <a:arcTo wR="5" hR="5" stAng="10800000" swAng="-5400000"/>
                <a:lnTo>
                  <a:pt x="21595" y="315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788160" cy="9923400"/>
          </a:xfrm>
          <a:custGeom>
            <a:avLst/>
            <a:gdLst>
              <a:gd name="textAreaLeft" fmla="*/ 360 w 6788160"/>
              <a:gd name="textAreaRight" fmla="*/ 6787800 w 6788160"/>
              <a:gd name="textAreaTop" fmla="*/ 360 h 9923400"/>
              <a:gd name="textAreaBottom" fmla="*/ 9923040 h 9923400"/>
            </a:gdLst>
            <a:ahLst/>
            <a:rect l="textAreaLeft" t="textAreaTop" r="textAreaRight" b="textAreaBottom"/>
            <a:pathLst>
              <a:path w="21600" h="31576">
                <a:moveTo>
                  <a:pt x="5" y="0"/>
                </a:moveTo>
                <a:arcTo wR="5" hR="5" stAng="16200000" swAng="-5400000"/>
                <a:lnTo>
                  <a:pt x="0" y="31571"/>
                </a:lnTo>
                <a:arcTo wR="5" hR="5" stAng="10800000" swAng="-5400000"/>
                <a:lnTo>
                  <a:pt x="21595" y="315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788160" cy="9923400"/>
          </a:xfrm>
          <a:custGeom>
            <a:avLst/>
            <a:gdLst>
              <a:gd name="textAreaLeft" fmla="*/ 360 w 6788160"/>
              <a:gd name="textAreaRight" fmla="*/ 6787800 w 6788160"/>
              <a:gd name="textAreaTop" fmla="*/ 360 h 9923400"/>
              <a:gd name="textAreaBottom" fmla="*/ 9923040 h 9923400"/>
            </a:gdLst>
            <a:ahLst/>
            <a:rect l="textAreaLeft" t="textAreaTop" r="textAreaRight" b="textAreaBottom"/>
            <a:pathLst>
              <a:path w="21600" h="31576">
                <a:moveTo>
                  <a:pt x="5" y="0"/>
                </a:moveTo>
                <a:arcTo wR="5" hR="5" stAng="16200000" swAng="-5400000"/>
                <a:lnTo>
                  <a:pt x="0" y="31571"/>
                </a:lnTo>
                <a:arcTo wR="5" hR="5" stAng="10800000" swAng="-5400000"/>
                <a:lnTo>
                  <a:pt x="21595" y="315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788160" cy="9923400"/>
          </a:xfrm>
          <a:custGeom>
            <a:avLst/>
            <a:gdLst>
              <a:gd name="textAreaLeft" fmla="*/ 360 w 6788160"/>
              <a:gd name="textAreaRight" fmla="*/ 6787800 w 6788160"/>
              <a:gd name="textAreaTop" fmla="*/ 360 h 9923400"/>
              <a:gd name="textAreaBottom" fmla="*/ 9923040 h 9923400"/>
            </a:gdLst>
            <a:ahLst/>
            <a:rect l="textAreaLeft" t="textAreaTop" r="textAreaRight" b="textAreaBottom"/>
            <a:pathLst>
              <a:path w="21600" h="31576">
                <a:moveTo>
                  <a:pt x="5" y="0"/>
                </a:moveTo>
                <a:arcTo wR="5" hR="5" stAng="16200000" swAng="-5400000"/>
                <a:lnTo>
                  <a:pt x="0" y="31571"/>
                </a:lnTo>
                <a:arcTo wR="5" hR="5" stAng="10800000" swAng="-5400000"/>
                <a:lnTo>
                  <a:pt x="21595" y="315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-14870160" y="-12801600"/>
            <a:ext cx="18032400" cy="135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3992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4400" y="75420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05" name=""/>
          <p:cNvSpPr/>
          <p:nvPr/>
        </p:nvSpPr>
        <p:spPr>
          <a:xfrm>
            <a:off x="679320" y="4713120"/>
            <a:ext cx="542952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4400" y="75420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07" name=""/>
          <p:cNvSpPr/>
          <p:nvPr/>
        </p:nvSpPr>
        <p:spPr>
          <a:xfrm>
            <a:off x="679320" y="4713120"/>
            <a:ext cx="542952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4400" y="75420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09" name=""/>
          <p:cNvSpPr/>
          <p:nvPr/>
        </p:nvSpPr>
        <p:spPr>
          <a:xfrm>
            <a:off x="679320" y="4713120"/>
            <a:ext cx="542952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4400" y="75420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11" name=""/>
          <p:cNvSpPr/>
          <p:nvPr/>
        </p:nvSpPr>
        <p:spPr>
          <a:xfrm>
            <a:off x="679320" y="4713120"/>
            <a:ext cx="542952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4400" y="75420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13" name=""/>
          <p:cNvSpPr/>
          <p:nvPr/>
        </p:nvSpPr>
        <p:spPr>
          <a:xfrm>
            <a:off x="679320" y="4713120"/>
            <a:ext cx="542952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4400" y="75420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15" name=""/>
          <p:cNvSpPr/>
          <p:nvPr/>
        </p:nvSpPr>
        <p:spPr>
          <a:xfrm>
            <a:off x="679320" y="4713120"/>
            <a:ext cx="542952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4400" y="75420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17" name=""/>
          <p:cNvSpPr/>
          <p:nvPr/>
        </p:nvSpPr>
        <p:spPr>
          <a:xfrm>
            <a:off x="679320" y="4713120"/>
            <a:ext cx="542952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7B85-81A0-47D0-8D3F-0DB5B8B9D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979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E936-7115-4927-BBB9-608B675D5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979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60020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94776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AAF0-9DF7-453A-B374-F902E38B0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979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9200" y="160020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0840" y="160020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9200" y="394776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0840" y="394776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3605-1CFA-428D-AF8F-97E3CDDBD6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979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04AD-AB5E-426E-B943-7306B98404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979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6D76-2C32-4432-AC85-EA9610D5A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979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60020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78FB-E7BF-4705-BFEA-63DF3CEA9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979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0E89-A103-4E31-B7F8-4F2603175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19792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8C09-9F7E-4191-879F-41E892B61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979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60020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E9FA-8CC4-43EB-910F-CE5BF010F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979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60020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94776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6C25C-8DA3-457B-ACD3-02617673C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979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60020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0A841-9B0A-4C16-9306-346B1B1CC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979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6520"/>
            <a:ext cx="2119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020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EC046-3622-4F2F-9AE6-7DA70ECA51A4}" type="slidenum">
              <a:rPr b="0" lang="it-IT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49360" y="191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it-IT" sz="2200" spc="-1" strike="noStrike">
                <a:solidFill>
                  <a:srgbClr val="953735"/>
                </a:solidFill>
                <a:latin typeface="Arial"/>
                <a:ea typeface="Arial"/>
              </a:rPr>
              <a:t>SEMINARIO NAZIONAL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953735"/>
                </a:solidFill>
                <a:latin typeface="Arial"/>
                <a:ea typeface="Arial"/>
              </a:rPr>
              <a:t>          </a:t>
            </a:r>
            <a:r>
              <a:rPr b="1" lang="it-IT" sz="2200" spc="-1" strike="noStrike">
                <a:solidFill>
                  <a:srgbClr val="953735"/>
                </a:solidFill>
                <a:latin typeface="Arial"/>
                <a:ea typeface="Arial"/>
              </a:rPr>
              <a:t>Lo stato di salute del welfare locale per i bambini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953735"/>
                </a:solidFill>
                <a:latin typeface="Arial"/>
                <a:ea typeface="Arial"/>
              </a:rPr>
              <a:t>Il welfare per i bambini e le loro famiglie dentro e oltre la crisi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Flavia Franzoni</a:t>
            </a:r>
            <a:br>
              <a:rPr sz="2000"/>
            </a:br>
            <a:br>
              <a:rPr sz="1400"/>
            </a:b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227640" y="260280"/>
            <a:ext cx="2467080" cy="961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672000" y="5118120"/>
            <a:ext cx="1866960" cy="1217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87280" y="287280"/>
            <a:ext cx="3957840" cy="100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700360" y="4437000"/>
            <a:ext cx="34704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irenz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, 14 gennaio 201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Istituto degli Innocent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476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29417" t="0" r="53674" b="0"/>
          <a:stretch/>
        </p:blipFill>
        <p:spPr>
          <a:xfrm>
            <a:off x="7488360" y="5616720"/>
            <a:ext cx="1511280" cy="105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01760" y="666720"/>
            <a:ext cx="8227800" cy="39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1280" y="5832360"/>
            <a:ext cx="2737080" cy="720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274680"/>
            <a:ext cx="8199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In quale welfare si «integrano» oggi i progetti 285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00200"/>
            <a:ext cx="81993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Vecchi bisogni e nuove emergenz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impatto della crisi economica sulla domanda e sulla offerta di servizi e prestazioni (espansione dei contributi economici, «ritorno» della beneficenza, etc.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e modificazioni indotte dalla crisi vanno a minare le caratteristiche del sistema di welfare delineato dalla l. n.328/2000? (si tradisce l’approccio universalistico e il welfare dei diritti?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476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29417" t="0" r="53674" b="0"/>
          <a:stretch/>
        </p:blipFill>
        <p:spPr>
          <a:xfrm>
            <a:off x="7488360" y="5616720"/>
            <a:ext cx="1511280" cy="1052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01760" y="666720"/>
            <a:ext cx="8227800" cy="39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1280" y="5832360"/>
            <a:ext cx="2737080" cy="720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836640"/>
            <a:ext cx="8199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dalla «Relazione al Parlamento sullo stato di attuazione della legge 28 agosto1997, n.285» (2013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430200" y="1916280"/>
            <a:ext cx="81993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Riprendere a progettare il presente, pensando al futur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(Valerio Belotti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……………………………………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ap. 3 </a:t>
            </a: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Lo stato di salute del welfare nelle città riservatarie; l’indagine sul camp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(Ires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476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29417" t="0" r="53674" b="0"/>
          <a:stretch/>
        </p:blipFill>
        <p:spPr>
          <a:xfrm>
            <a:off x="7488360" y="5616720"/>
            <a:ext cx="1511280" cy="1052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01760" y="666720"/>
            <a:ext cx="8227800" cy="39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1280" y="5832360"/>
            <a:ext cx="2737080" cy="720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" y="1600200"/>
            <a:ext cx="81993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Si deve superare un welfare </a:t>
            </a: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ineguale</a:t>
            </a: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 e un welfare </a:t>
            </a: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frammenta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Si deve costruire un welfare </a:t>
            </a:r>
            <a:r>
              <a:rPr b="1" i="1" lang="it-IT" sz="3200" spc="-1" strike="noStrike">
                <a:solidFill>
                  <a:srgbClr val="0070c0"/>
                </a:solidFill>
                <a:latin typeface="Calibri"/>
              </a:rPr>
              <a:t>comunitario</a:t>
            </a: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 e un welfare </a:t>
            </a:r>
            <a:r>
              <a:rPr b="1" i="1" lang="it-IT" sz="3200" spc="-1" strike="noStrike">
                <a:solidFill>
                  <a:srgbClr val="0070c0"/>
                </a:solidFill>
                <a:latin typeface="Calibri"/>
              </a:rPr>
              <a:t>generativ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Ancora la l. n. 328/2000: per un </a:t>
            </a:r>
            <a:r>
              <a:rPr b="1" i="1" lang="it-IT" sz="3200" spc="-1" strike="noStrike">
                <a:solidFill>
                  <a:srgbClr val="92d050"/>
                </a:solidFill>
                <a:latin typeface="Calibri"/>
              </a:rPr>
              <a:t>welfare municipale e comunitari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471600" y="646200"/>
            <a:ext cx="82008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Quale welfare per bambini, adolescenti e famigli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476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29417" t="0" r="53674" b="0"/>
          <a:stretch/>
        </p:blipFill>
        <p:spPr>
          <a:xfrm>
            <a:off x="7488360" y="5616720"/>
            <a:ext cx="1511280" cy="1052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01760" y="666720"/>
            <a:ext cx="8227800" cy="39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1280" y="5832360"/>
            <a:ext cx="2737080" cy="72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01760" y="506520"/>
            <a:ext cx="8199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Verso un welfare comunitario per bambini, adolescenti e famigli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600200"/>
            <a:ext cx="81993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«Emergenza adolescenza e predolescenza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«Fragilità della famiglia e competenze genitoriali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«Minori non accompagnati»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«Abbandono scolastico»……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 algn="ctr">
              <a:spcBef>
                <a:spcPts val="799"/>
              </a:spcBef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Queste «vecchie e nuove emergenze» hanno bisogno di </a:t>
            </a: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lavoro di comunità</a:t>
            </a: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476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9417" t="0" r="53674" b="0"/>
          <a:stretch/>
        </p:blipFill>
        <p:spPr>
          <a:xfrm>
            <a:off x="7488360" y="5616720"/>
            <a:ext cx="1511280" cy="1052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01760" y="666720"/>
            <a:ext cx="8227800" cy="39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1280" y="5832360"/>
            <a:ext cx="2737080" cy="720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2665440"/>
            <a:ext cx="8199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Integrazione macro-micr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Equilibrio tra politiche per la famiglia e  politiche per i minor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Non solo assistenza e tutela, ma anche prevenzione e promozio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430200" y="1052640"/>
            <a:ext cx="8199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Per superare un </a:t>
            </a:r>
            <a:r>
              <a:rPr b="0" lang="it-IT" sz="4400" spc="-1" strike="noStrike">
                <a:solidFill>
                  <a:srgbClr val="ff0000"/>
                </a:solidFill>
                <a:latin typeface="Calibri"/>
              </a:rPr>
              <a:t>welfare incompiut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476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9417" t="0" r="53674" b="0"/>
          <a:stretch/>
        </p:blipFill>
        <p:spPr>
          <a:xfrm>
            <a:off x="7488360" y="5616720"/>
            <a:ext cx="1511280" cy="1052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01760" y="666720"/>
            <a:ext cx="8227800" cy="39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1280" y="5832360"/>
            <a:ext cx="2737080" cy="720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200" y="1600200"/>
            <a:ext cx="81993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La «cultura» della 28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In alcune realtà più deboli la  285 è ancora fonte di finanziamento essenziale e occasione di collaborazioni innovativ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In realtà di welfare maturo i progetti 285  sono via via integrati nella rete ma rimangono occasione per introdurre innovazion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74680"/>
            <a:ext cx="8199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«resistenza» della 28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0T09:56:15Z</dcterms:created>
  <dc:creator>Bianchi Donata</dc:creator>
  <dc:description/>
  <dc:language>en-US</dc:language>
  <cp:lastModifiedBy>segreteria</cp:lastModifiedBy>
  <cp:lastPrinted>2016-01-11T12:17:55Z</cp:lastPrinted>
  <dcterms:modified xsi:type="dcterms:W3CDTF">2016-01-12T08:50:55Z</dcterms:modified>
  <cp:revision>29</cp:revision>
  <dc:subject/>
  <dc:title>TAVOLO DI COORDINAMENTO TRA MINISTERO DEL LAVORO E DELLE POLITICHE SOCIALI E  LE  CITTA’ RISERVATARIE AI SENSI DELLA LEGGE 285/97  INCONTRO TECNICO  ROMA, 29 MAGGIO 2014</dc:title>
</cp:coreProperties>
</file>