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F7F-3317-4548-98D7-1BBFB452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2E4-53FB-4289-A696-D8412A9A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234-1B9C-4F06-B32D-48F2935F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002-CEF0-44F7-BA9A-7F6473B9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BEC5-ACED-4EFC-8CDB-A8B8FCC8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8DBB-A942-4E92-9780-EF226313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36DB-BF96-4960-8C69-ABD9AB1E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01A7-DCBE-46DB-88E5-73FCB74B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B1F2-B2ED-45FC-BF7B-B6361839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76C0-1BCE-4930-8914-BEF6026C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309F-B62A-440B-8E0C-22A7D869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13B-7C63-4B51-BC64-0AC15E2F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CE41-2235-43B1-8AFB-75CDFA8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7B17-4F42-4EC4-AB31-681721BD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DA71-DCCF-4086-8A29-EAFAF297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DC47-B800-442B-AC7B-2864F8DA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E3F2-1122-417F-8D7B-10DA83CE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FE1-F30B-4179-A010-D40C3405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CFE-8EEA-4E15-B226-F5959D05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535-AD0E-46C1-969D-C9D9B65C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EAD-7F36-4B6F-B8B7-138212C0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9A6-8224-4B8D-8E9B-7809B56A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E3B-04E2-434C-98EC-658D2472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96A-6190-4624-8532-02B143BC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F757-8D44-4798-BDBC-D73E20B7B07B}" type="slidenum">
              <a:rPr b="0" lang="it-IT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26CB-1FF8-4C71-9463-46923B164C9B}" type="slidenum">
              <a:rPr b="0" lang="it-IT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-654120"/>
            <a:ext cx="7772400" cy="770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“</a:t>
            </a: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… </a:t>
            </a:r>
            <a:br>
              <a:rPr sz="4000"/>
            </a:b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e dintorni </a:t>
            </a:r>
            <a:br>
              <a:rPr sz="4000"/>
            </a:b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llaborazioni attivate e prospettive possibili: alcune riflessioni”</a:t>
            </a:r>
            <a:br>
              <a:rPr sz="4000"/>
            </a:br>
            <a:r>
              <a:rPr b="1" lang="it-IT" sz="16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br>
              <a:rPr sz="1600"/>
            </a:br>
            <a:br>
              <a:rPr sz="1600"/>
            </a:br>
            <a:r>
              <a:rPr b="1" lang="it-IT" sz="2000" spc="-1" strike="noStrike">
                <a:solidFill>
                  <a:srgbClr val="003366"/>
                </a:solidFill>
                <a:latin typeface="Agency FB"/>
                <a:ea typeface="Times New Roman"/>
              </a:rPr>
              <a:t>13 dicembre 2005  Ore 17.30/22.00</a:t>
            </a:r>
            <a:br>
              <a:rPr sz="2000"/>
            </a:br>
            <a:r>
              <a:rPr b="1" lang="it-IT" sz="2000" spc="-1" strike="noStrike">
                <a:solidFill>
                  <a:srgbClr val="003366"/>
                </a:solidFill>
                <a:latin typeface="Agency FB"/>
                <a:ea typeface="Arial"/>
              </a:rPr>
              <a:t>Centro Incontri “Il Mulino” - Via Balegno, 2, Rivalta di Torino</a:t>
            </a:r>
            <a:br>
              <a:rPr sz="1600"/>
            </a:br>
            <a:r>
              <a:rPr b="1" lang="it-IT" sz="1600" spc="-1" strike="noStrike">
                <a:solidFill>
                  <a:srgbClr val="003366"/>
                </a:solidFill>
                <a:latin typeface="Agency FB"/>
                <a:ea typeface="Arial"/>
              </a:rPr>
              <a:t> </a:t>
            </a:r>
            <a:br>
              <a:rPr sz="1600"/>
            </a:br>
            <a:r>
              <a:rPr b="1" lang="it-IT" sz="16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br>
              <a:rPr sz="1600"/>
            </a:br>
            <a:r>
              <a:rPr b="1" lang="it-IT" sz="16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br>
              <a:rPr sz="1600"/>
            </a:b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480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5288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" name="strada" descr=""/>
          <p:cNvPicPr/>
          <p:nvPr/>
        </p:nvPicPr>
        <p:blipFill>
          <a:blip r:embed="rId1"/>
          <a:stretch/>
        </p:blipFill>
        <p:spPr>
          <a:xfrm>
            <a:off x="2162160" y="5029200"/>
            <a:ext cx="271476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strada" descr=""/>
          <p:cNvPicPr/>
          <p:nvPr/>
        </p:nvPicPr>
        <p:blipFill>
          <a:blip r:embed="rId2"/>
          <a:stretch/>
        </p:blipFill>
        <p:spPr>
          <a:xfrm>
            <a:off x="4876920" y="5029200"/>
            <a:ext cx="2714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9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</a:t>
            </a:r>
            <a:r>
              <a:rPr b="0" lang="it-IT" sz="40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   </a:t>
            </a: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PIOSSASC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141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llaboratori/Volontaria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entro di Aggregazione Punto Giovan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marL="325800" indent="-141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ttività:  Lavoro di strada/animazione</a:t>
            </a:r>
            <a:br>
              <a:rPr sz="2800"/>
            </a:b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n. 1 grande gruppo - n. 40 ragazzi/e  - età 14/19 ann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rea Polisportivo e Piazza Pertin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141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zioni attivat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LDS e AreaZero, presenza pomeriggio/sera a rotazione sui due luogh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 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Serate musicali e chill ou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</a:rPr>
              <a:t>Animazione e gioch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9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</a:t>
            </a:r>
            <a:r>
              <a:rPr b="0" lang="it-IT" sz="40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   </a:t>
            </a: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RIVALTA – TETTI FRANCESI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01680" indent="-131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llaboratori/Volontaria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entro di Aggregazion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ssociazione Giovan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marL="301680" indent="-131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ttività:  Lavoro di strada/animazione</a:t>
            </a:r>
            <a:br>
              <a:rPr sz="2800"/>
            </a:b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n. 1 grande gruppo - n. 25 ragazzi/e  - età 16/22 ann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ardino e zone limitrofe Centro Aggregazi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-131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zioni attivat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LDS e AreaZero, presenza tutti i venerdì pom/ser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ganizzazione e realizzazione festa 29 luglio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in collaborazione con operatori CAG e con alcuni anziani del quartie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9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</a:t>
            </a:r>
            <a:r>
              <a:rPr b="0" lang="it-IT" sz="40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9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   </a:t>
            </a:r>
            <a:r>
              <a:rPr b="1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VOLVERA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409320" indent="-2430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llaboratori/Volontariato: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09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Iniziale contatto con Caritas </a:t>
            </a:r>
            <a:r>
              <a:rPr b="0" lang="it-IT" sz="2400" spc="-1" strike="noStrike">
                <a:solidFill>
                  <a:srgbClr val="003366"/>
                </a:solidFill>
                <a:latin typeface="Agency FB"/>
                <a:ea typeface="Times New Roman"/>
              </a:rPr>
              <a:t>(non proseguita x differenza età fra volontari e ragazz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093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marL="409320" indent="-2430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Attività:  Lavoro di strada/animazione</a:t>
            </a:r>
            <a:br>
              <a:rPr sz="3200"/>
            </a:b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n. 1 gruppo - n. 20 ragazzi/e  - età 16/22 anni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0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Via Garibaldi e aree limitrofe, Viale direzione No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09320" indent="-2430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Azioni attivate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0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LDS e AreaZero, presenza pomeriggio e ser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0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   </a:t>
            </a:r>
            <a:r>
              <a:rPr b="0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Allestimento area informativa e chill out alla festa patrona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922320"/>
            <a:ext cx="668160" cy="982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42480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609480" cy="990720"/>
          </a:xfrm>
          <a:prstGeom prst="rect">
            <a:avLst/>
          </a:prstGeom>
          <a:ln w="0">
            <a:noFill/>
          </a:ln>
        </p:spPr>
      </p:pic>
      <p:pic>
        <p:nvPicPr>
          <p:cNvPr id="150" name="Logo%20provincia" descr=""/>
          <p:cNvPicPr/>
          <p:nvPr/>
        </p:nvPicPr>
        <p:blipFill>
          <a:blip r:embed="rId3"/>
          <a:stretch/>
        </p:blipFill>
        <p:spPr>
          <a:xfrm>
            <a:off x="609480" y="5562720"/>
            <a:ext cx="1295640" cy="58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171360" y="6248520"/>
            <a:ext cx="48686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n il finanziamento della Provincia di Torino</a:t>
            </a:r>
            <a:br>
              <a:rPr sz="1000"/>
            </a:br>
            <a:r>
              <a:rPr b="1" lang="it-IT" sz="1000" spc="-1" strike="noStrike">
                <a:solidFill>
                  <a:srgbClr val="003366"/>
                </a:solidFill>
                <a:latin typeface="Agency FB"/>
                <a:ea typeface="Times New Roman"/>
              </a:rPr>
              <a:t>L.R. n.16/95 “Coordinamento e sostegno delle attività a favore dei giovani”</a:t>
            </a:r>
            <a:br>
              <a:rPr sz="1000"/>
            </a:br>
            <a:r>
              <a:rPr b="1" lang="it-IT" sz="1000" spc="-1" strike="noStrike">
                <a:solidFill>
                  <a:srgbClr val="003366"/>
                </a:solidFill>
                <a:latin typeface="Agency FB"/>
                <a:ea typeface="Times New Roman"/>
              </a:rPr>
              <a:t>Piano Provinciale 2004</a:t>
            </a:r>
            <a:br>
              <a:rPr sz="4400"/>
            </a:b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762120"/>
            <a:ext cx="59436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66"/>
                </a:solidFill>
                <a:uFillTx/>
                <a:latin typeface="Agency FB"/>
                <a:ea typeface="Times New Roman"/>
              </a:rPr>
              <a:t>Programma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e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17.00</a:t>
            </a: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accoglienza dei partecipant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e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17.30</a:t>
            </a: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introduzione ai lavor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e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17.45</a:t>
            </a: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interventi dei partecipanti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e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18.45</a:t>
            </a: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video sul Lavoro di strad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e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19.15</a:t>
            </a: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interventi dei partecipanti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e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20.00</a:t>
            </a: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buffe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e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21.00</a:t>
            </a: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indicazioni strategiche e operativ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e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21.20</a:t>
            </a: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discussi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e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22.00</a:t>
            </a: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conclusion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52480" y="1676520"/>
            <a:ext cx="7772400" cy="411480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Un’occasione per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ndividere quanto realizzato con </a:t>
            </a:r>
            <a:br>
              <a:rPr sz="2800"/>
            </a:b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“Giovani per Quartieri Animati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riflettere sui processi di collaborazione attivat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partecipare alla valutazione del proget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ntribuire alla riflessione sulle collaborazioni possibil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promuovere processi di partecipazione attiva </a:t>
            </a:r>
            <a:br>
              <a:rPr sz="2800"/>
            </a:b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e di assunzione di responsabilità condivise</a:t>
            </a:r>
            <a:r>
              <a:rPr b="0" lang="it-IT" sz="2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480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5288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" name="strada" descr=""/>
          <p:cNvPicPr/>
          <p:nvPr/>
        </p:nvPicPr>
        <p:blipFill>
          <a:blip r:embed="rId6"/>
          <a:stretch/>
        </p:blipFill>
        <p:spPr>
          <a:xfrm>
            <a:off x="76320" y="4965840"/>
            <a:ext cx="1571400" cy="749160"/>
          </a:xfrm>
          <a:prstGeom prst="rect">
            <a:avLst/>
          </a:prstGeom>
          <a:ln w="0">
            <a:noFill/>
          </a:ln>
        </p:spPr>
      </p:pic>
      <p:pic>
        <p:nvPicPr>
          <p:cNvPr id="157" name="strada" descr=""/>
          <p:cNvPicPr/>
          <p:nvPr/>
        </p:nvPicPr>
        <p:blipFill>
          <a:blip r:embed="rId7"/>
          <a:stretch/>
        </p:blipFill>
        <p:spPr>
          <a:xfrm>
            <a:off x="485640" y="5346720"/>
            <a:ext cx="1571760" cy="749160"/>
          </a:xfrm>
          <a:prstGeom prst="rect">
            <a:avLst/>
          </a:prstGeom>
          <a:ln w="0">
            <a:noFill/>
          </a:ln>
        </p:spPr>
      </p:pic>
      <p:pic>
        <p:nvPicPr>
          <p:cNvPr id="158" name="strada" descr=""/>
          <p:cNvPicPr/>
          <p:nvPr/>
        </p:nvPicPr>
        <p:blipFill>
          <a:blip r:embed="rId8"/>
          <a:stretch/>
        </p:blipFill>
        <p:spPr>
          <a:xfrm>
            <a:off x="990720" y="5727600"/>
            <a:ext cx="1571400" cy="749520"/>
          </a:xfrm>
          <a:prstGeom prst="rect">
            <a:avLst/>
          </a:prstGeom>
          <a:ln w="0">
            <a:noFill/>
          </a:ln>
        </p:spPr>
      </p:pic>
      <p:pic>
        <p:nvPicPr>
          <p:cNvPr id="159" name="strada" descr=""/>
          <p:cNvPicPr/>
          <p:nvPr/>
        </p:nvPicPr>
        <p:blipFill>
          <a:blip r:embed="rId9"/>
          <a:stretch/>
        </p:blipFill>
        <p:spPr>
          <a:xfrm>
            <a:off x="1752480" y="5956200"/>
            <a:ext cx="1571760" cy="749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1600" y="628164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80880" y="-230400"/>
            <a:ext cx="8382240" cy="27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… e dintorni</a:t>
            </a: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</a:t>
            </a:r>
            <a:br>
              <a:rPr sz="3200"/>
            </a:b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llaborazioni attivate e prospettive possibili: alcune riflessioni</a:t>
            </a:r>
            <a:r>
              <a:rPr b="1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”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</a:t>
            </a:r>
            <a:r>
              <a:rPr b="0" lang="it-IT" sz="40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</a:rPr>
              <a:t>31/01/05: presentato alla Provincia di Torino  ai sensi del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</a:rPr>
              <a:t>    </a:t>
            </a:r>
            <a:r>
              <a:rPr b="0" lang="it-IT" sz="3200" spc="-1" strike="noStrike">
                <a:solidFill>
                  <a:srgbClr val="003366"/>
                </a:solidFill>
                <a:latin typeface="Agency FB"/>
              </a:rPr>
              <a:t>L.R. 16/95,  richiesta di finanziamento € 30.000,00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</a:rPr>
              <a:t>19/05/05: la Provincia comunica l’approvazione del progetto ed il suo  finanziamento per un importo pari a € 11.210,00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</a:rPr>
              <a:t> </a:t>
            </a:r>
            <a:r>
              <a:rPr b="0" lang="it-IT" sz="3200" spc="-1" strike="noStrike">
                <a:solidFill>
                  <a:srgbClr val="003366"/>
                </a:solidFill>
                <a:latin typeface="Agency FB"/>
              </a:rPr>
              <a:t>Fine maggio/metà giugno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Agency FB"/>
              </a:rPr>
              <a:t>    </a:t>
            </a:r>
            <a:r>
              <a:rPr b="0" lang="it-IT" sz="2600" spc="-1" strike="noStrike">
                <a:solidFill>
                  <a:srgbClr val="003366"/>
                </a:solidFill>
                <a:latin typeface="Agency FB"/>
              </a:rPr>
              <a:t>- iter amministrativo per accettazione contributo e affidamento progetto;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Agency FB"/>
              </a:rPr>
              <a:t>    </a:t>
            </a:r>
            <a:r>
              <a:rPr b="0" lang="it-IT" sz="2600" spc="-1" strike="noStrike">
                <a:solidFill>
                  <a:srgbClr val="003366"/>
                </a:solidFill>
                <a:latin typeface="Agency FB"/>
              </a:rPr>
              <a:t>- attivazione partnership e collaborazioni con Comuni ed Associazioni;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Agency FB"/>
              </a:rPr>
              <a:t>   </a:t>
            </a:r>
            <a:r>
              <a:rPr b="0" lang="it-IT" sz="2600" spc="-1" strike="noStrike">
                <a:solidFill>
                  <a:srgbClr val="003366"/>
                </a:solidFill>
                <a:latin typeface="Agency FB"/>
              </a:rPr>
              <a:t>-  rimodulazione progetto, a fronte delle risorse attribuite;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Agency FB"/>
              </a:rPr>
              <a:t>    </a:t>
            </a:r>
            <a:r>
              <a:rPr b="0" lang="it-IT" sz="2600" spc="-1" strike="noStrike">
                <a:solidFill>
                  <a:srgbClr val="003366"/>
                </a:solidFill>
                <a:latin typeface="Agency FB"/>
              </a:rPr>
              <a:t>- predisposizione della progettazione operativa.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</a:rPr>
              <a:t>20 Giugno avvio attività di quartier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gency FB"/>
              </a:rPr>
              <a:t> 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</a:t>
            </a:r>
            <a:r>
              <a:rPr b="0" lang="it-IT" sz="40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Destinatari: gruppi naturali giovani e singoli, 15/22 anni </a:t>
            </a:r>
            <a:br>
              <a:rPr sz="3600"/>
            </a:br>
            <a:r>
              <a:rPr b="0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Target raggiunto: n.7 gruppi naturali e n. 150 ragazzi c.a.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40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just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Risorsa del progetto e destinatari secondari: alcuni</a:t>
            </a:r>
            <a:r>
              <a:rPr b="1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 </a:t>
            </a:r>
            <a:r>
              <a:rPr b="0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di  associazioni e gruppi di volontariato, o singoli giovani volontari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just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sono state attivate collaborazioni per le attività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40120" indent="-240120" algn="just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66"/>
                </a:solidFill>
                <a:latin typeface="Agency FB"/>
                <a:ea typeface="Times New Roman"/>
              </a:rPr>
              <a:t>sono stati sviluppati processi di peer education e di protagonismo giovanile attivo.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</a:t>
            </a:r>
            <a:r>
              <a:rPr b="0" lang="it-IT" sz="40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838080"/>
          <a:ext cx="8686800" cy="5665680"/>
        </p:xfrm>
        <a:graphic>
          <a:graphicData uri="http://schemas.openxmlformats.org/drawingml/2006/table">
            <a:tbl>
              <a:tblPr/>
              <a:tblGrid>
                <a:gridCol w="2514600"/>
                <a:gridCol w="617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</a:rPr>
                        <a:t>azion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</a:rPr>
                        <a:t>obiettiv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Ricerca nuove partnership e collaborazioni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promuovere processi partecipati con attori locali giovani non istituzionali, anche in grado di proseguire a conclusione del progetto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interventi di animazione di quartiere/strada,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2 coppie di educatori sui 6  territori comunali x 2 presenze settimanali (pomeridiane/serali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Con la collaborazione di giovani volontari.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promuovere inserimento sociale di giovani in situazione di disagio, a contrasto di emarginazione e devianza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stimolare percorsi d’emersione di subculture giovanili 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attivare contesti in cui garantire/promuovere: aggregazione,  socializzazione, sperimentazione,  valorizzazione delle competenze, apprendimento,   protagonismo attivo, progettazione partecipata, espressione creativa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promuovere identità collettive e senso d’appartenenza, protagonismo e auto-determinazione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stimolare occasioni di confronto e condivisione di esperienze fra giovani e con adulti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gency FB"/>
                          <a:ea typeface="Times New Roman"/>
                        </a:rPr>
                        <a:t>realizzare interventi concertati e coogestiti con giovani volontari (opportunità di partecipazione attiva e peer education)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</a:t>
            </a:r>
            <a:r>
              <a:rPr b="0" lang="it-IT" sz="40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   </a:t>
            </a: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BEINASC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42800" indent="-262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llaboratori/Volontaria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peratrice Servizio Civile Volontario Comu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 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Volontaria di un gruppo animator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marL="442800" indent="-262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ttività:  Lavoro di strada/animazione</a:t>
            </a:r>
            <a:br>
              <a:rPr sz="2800"/>
            </a:b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n. 2 gruppi - n. 25 ragazzi/e  - età 14/16 ann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zona Giardinetti limitrofi Municip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marL="442800" indent="-262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zioni attivat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LDS pomeridiano e AreaZero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 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Iniziative promosse dal gruppo e realizzate:   “Serata crepes”,  Cena   al giardino, Serata musicale e chillout a cielo aper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9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</a:t>
            </a:r>
            <a:r>
              <a:rPr b="0" lang="it-IT" sz="40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   </a:t>
            </a: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BRUIN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47480" indent="-265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llaboratori/Volontaria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ssociazione Giovan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 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entro di Aggregazi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marL="447480" indent="-265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ttività:  Lavoro di strada/animazione</a:t>
            </a:r>
            <a:br>
              <a:rPr sz="2800"/>
            </a:b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n. 1 gruppo - n. 25 ragazzi/e  - età 16/22 ann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ardino Centro Aggregazione e zone limitrof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marL="447480" indent="-265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zioni attivat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LDS e AreaZero nei giorni di chiusura del Centro di Aggregazi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 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Festa 23 luglio – chill out e hip ho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</a:rPr>
              <a:t>preparazione/realizzazione incontro hip hop presso il carcere        minorile Ferrante Aport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4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9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ovani per Quartieri Animati</a:t>
            </a:r>
            <a:r>
              <a:rPr b="0" lang="it-IT" sz="40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   </a:t>
            </a:r>
            <a:r>
              <a:rPr b="1" lang="it-IT" sz="3200" spc="-1" strike="noStrike">
                <a:solidFill>
                  <a:srgbClr val="003366"/>
                </a:solidFill>
                <a:latin typeface="Agency FB"/>
                <a:ea typeface="Times New Roman"/>
              </a:rPr>
              <a:t>ORBASSAN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149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llaboratori/Volontaria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Operatrice Servizio Civile Volontario Comu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 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entro di Aggregazione Puzz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marL="343080" indent="-149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ttività:  Lavoro di strada/animazione</a:t>
            </a:r>
            <a:br>
              <a:rPr sz="2800"/>
            </a:b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n. 1 gruppo - n. 15 ragazzi/e  - età 16/22 anni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Giardino Centro Aggregazi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149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Azioni attivat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LDS e AreaZero sul territor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  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  <a:ea typeface="Times New Roman"/>
              </a:rPr>
              <a:t>Corso writing e realizzazione mura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gency FB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gency FB"/>
              </a:rPr>
              <a:t>cena fin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16:40:00Z</dcterms:created>
  <dc:creator>Norma</dc:creator>
  <dc:description/>
  <dc:language>en-US</dc:language>
  <cp:lastModifiedBy>cidis </cp:lastModifiedBy>
  <dcterms:modified xsi:type="dcterms:W3CDTF">2005-12-13T10:44:37Z</dcterms:modified>
  <cp:revision>47</cp:revision>
  <dc:subject/>
  <dc:title>   LA COSTRUZIONE DEL PIANO DI ZONA  IN UN CONSORZIO DI SERVIZI  SOCIO-ASSISTENZIALI PIEMONTESE  CONSORZIO INTECOMUNALE DI SERVIZI  CIdiS    </dc:title>
</cp:coreProperties>
</file>