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47BB-2375-46DC-A607-98B5F0C3B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B255-B3A3-4342-B697-575D5308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F5A4-8E4F-4F31-859A-30BD7AB6C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5D29-0F51-4432-9FFF-2BC0C458A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E347-33DA-4D03-B022-D551F657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C01F-5280-40FC-B093-B75478DB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5AB4-ADF7-4CC0-9E9E-B23665A2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248E-0800-4A5A-9B17-C435CB47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05D7-87E7-4E8F-84EB-3593510E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FA51-99CB-4564-BA0C-E13345F8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FA16-4760-441A-8765-545C6CCD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6995-E885-4755-B3FD-584C89F6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8245-27F6-4D58-8A85-26E3393DB46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mailto:areadisosta@areazero.be" TargetMode="Externa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3280" y="189000"/>
            <a:ext cx="720072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ondon Tube"/>
              </a:rPr>
              <a:t>7 marzo 2007_comune di rivalt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Arial"/>
              </a:rPr>
              <a:t>Bru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3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57200" y="274680"/>
          <a:ext cx="8229600" cy="6411960"/>
        </p:xfrm>
        <a:graphic>
          <a:graphicData uri="http://schemas.openxmlformats.org/drawingml/2006/table">
            <a:tbl>
              <a:tblPr/>
              <a:tblGrid>
                <a:gridCol w="2320920"/>
                <a:gridCol w="2155680"/>
                <a:gridCol w="2157480"/>
                <a:gridCol w="15955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LUOGHI di RITRO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GRUPP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TIPOLOGIA GRUPP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IPOTESI LAVO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Bar Week-End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Via dei Tigli angolo Via delle camel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Gruppo di 10 ragazzi/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(7 M e 3 F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Età 15/18 ann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tile: truzzo / ricerca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tazionano ai tavolini della veranda del b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Chiacchierano pacatame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Hanno dei motorini parcheggiati dava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gruppo bar weeke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giardino boomera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percorso ca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Parchetto Cimiter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Di fronte Centro Sportiv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Gruppo di 4 ragazz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(3 M e 1 F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Età 15/16 ann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tile: truzz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tazionano sulla panchin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Hanno 2 motorin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Parlano tranquillament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65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Bar Valentin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Via Piossas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Gruppi di ragazzi/e (M e F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Età 17/25 ann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tile: truzz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Entrano e escono dal B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Usano lo spazio posteriore del ba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(spazio giochi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Alcuni frequentano il Centro Incontr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65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Parco gioch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Dietro Pub Boomera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Gruppo di 8 ragazzi (M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Età 15/18 ann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tile: truzz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tanno sulle panchine del parco gioch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Chiacchierano tranquillament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Un solo motorino parcheggia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Parco paradis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Via dei cipressi angolo Via del Meisin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Parcheggio del Mercat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Di fianco struttura di legn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Parchetto panchine di piet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Angolo Via Torin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Orbass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Arial"/>
              </a:rPr>
              <a:t>Orbass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9" dur="2000" fill="hold"/>
                                        <p:tgtEl>
                                          <p:spTgt spid="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57200" y="274680"/>
          <a:ext cx="8229600" cy="6005520"/>
        </p:xfrm>
        <a:graphic>
          <a:graphicData uri="http://schemas.openxmlformats.org/drawingml/2006/table">
            <a:tbl>
              <a:tblPr/>
              <a:tblGrid>
                <a:gridCol w="2320920"/>
                <a:gridCol w="2155680"/>
                <a:gridCol w="2157480"/>
                <a:gridCol w="1595520"/>
              </a:tblGrid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LUOGHI di RITRO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GRUPP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TIPOLOGIA GRUPP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Ipote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Piazza della pa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Gruppo di 9 ragazzi/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(5 F e 4 M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2 ragazzi stranieri (1 slavo - 1 indiano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Età 12/14 ann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Nessuno stile partico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Giocano, si rincorrono, si baccaglian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i spostano verso i palazzi e si dileguan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Parco della rimembranz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Piazza del municipi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Piazza della pa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Collaborazioni con tavolo giova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Piazza della pac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Gruppo di 4/5 ragazzi (M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Età 19/25 ann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tile: sportiv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tazionano in cerchio, circondati dalle loro aut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Chiacchierano tranquillament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Bar el cafè della plaz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Via marc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Gruppo di 10 ragazzi/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(3 F e 7 M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Età 17/ 20 ann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tile: truzz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tazionano al bar, escono per fum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Chiacchierano animatamente tra lor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Panchine davanti parcheggi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Posta via san roc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Gruppo di 6 ragazzi/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(2 F e 4 M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Età 14/16 ann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tile: ricercat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Alcuni fanno sport (hanno le borse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i spostano verso il centro e si dileguan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60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Parrucchiere Alessio hair stylist via san roc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Gruppo di 5 ragazzi (M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Età 15/17 ann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Piccoli gruppi di ragazzi (M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(Età 16/ 20 anni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tile: molto truzzo omologat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tazionano davanti al parrucchie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A piedi o in motorin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Entrano e escono dal parrucchie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Interagiscono con i ragazzi che passan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ono molto rumoros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57200" y="274680"/>
          <a:ext cx="8229240" cy="5851080"/>
        </p:xfrm>
        <a:graphic>
          <a:graphicData uri="http://schemas.openxmlformats.org/drawingml/2006/table">
            <a:tbl>
              <a:tblPr/>
              <a:tblGrid>
                <a:gridCol w="2878920"/>
                <a:gridCol w="2674800"/>
                <a:gridCol w="2675520"/>
              </a:tblGrid>
              <a:tr h="955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Parchetto del Murales / Fiorist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via Nazario sau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Gruppo di 10 ragazzi/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( 2 F e 8 M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Età 15/17 an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tile: truzz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Escono dal negozio e si dirigono verso il centr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Incontrano alcuni ragazzi/e che conosco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1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Pizzeria Speedy via s. roc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Piccoli gruppi di ragazzi/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(M e F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Età 14/ 20 an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tazionano dentro e fuori pizzeri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Alcuni si siedono sulle panchine dava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Bar sotto portic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Via 3° reggimento degli alpi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Via vai di ragazzi/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Girano anche tanti adul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Utilizzo aperitiv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Utilizzo del locale per feste organizzate da genito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I baristi sono apparentemente molto disponibil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1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Piazza Umberto 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Panchina davanti chiesetta picco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Gruppo di 5 ragazz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(4 F e 1 M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tile: ricercat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tazionano sulla panchi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Parlano tranquillament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935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Centro Città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Area pedonal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Piccoli gruppi di ragazzi/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(2/4 individui o M o F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Età 12 / 20 anni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i muovono per il centro, interagendo il minimo con gli altri gruppet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Entrano e escono dai negozi e in particolare dalle panetterie/pizzeri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ostano pochi attimi alle panchine per rispostars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Negli stessi spazi stazionano anche molti adulti / anziani (occupando piazza e panchine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Bar Royal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Piazza Umberto 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Gruppo di 7 ragazzi (M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Età 17/25 ann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tile: truzz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Entrano ed escono dal b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Interagiscono con gli adulti che frequentano il b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Chiacchierano animatament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457200" y="274680"/>
          <a:ext cx="8229600" cy="5850720"/>
        </p:xfrm>
        <a:graphic>
          <a:graphicData uri="http://schemas.openxmlformats.org/drawingml/2006/table">
            <a:tbl>
              <a:tblPr/>
              <a:tblGrid>
                <a:gridCol w="2320560"/>
                <a:gridCol w="2156400"/>
                <a:gridCol w="2156760"/>
                <a:gridCol w="1595880"/>
              </a:tblGrid>
              <a:tr h="210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Parcheggio palazzi “Orca Gialla” e giardi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Gruppo di 8 ragazzi/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(2 F e 6 M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Età 17/20 ann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tile: serioso/alternativ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tazionano in cerchi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Chiacchierano tranquillame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Hanno a fianco due au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0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Bar Kebap Indian Mi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Via frej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Gruppo di 6 ragazzi (M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Età 15/17 ann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tile: truzz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Chiacchierano tranquillament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Usano i tavolini del ba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i spostano verso il centr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63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Parco della Rimembranz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Via frej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Piccoli gruppi di età divers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tazionano sulle panchine e si spostano velocement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Arial"/>
              </a:rPr>
              <a:t>Piossas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5" dur="2000" fill="hold"/>
                                        <p:tgtEl>
                                          <p:spTgt spid="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57200" y="274680"/>
          <a:ext cx="8229600" cy="5851080"/>
        </p:xfrm>
        <a:graphic>
          <a:graphicData uri="http://schemas.openxmlformats.org/drawingml/2006/table">
            <a:tbl>
              <a:tblPr/>
              <a:tblGrid>
                <a:gridCol w="2320560"/>
                <a:gridCol w="2156400"/>
                <a:gridCol w="2156760"/>
                <a:gridCol w="15958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LUOGHI di RITRO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GRUPP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TIPOLOGIA GRUPP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Ipote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7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Centro Polisportiv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Piccoli gruppi ragazzi/e (M e F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Età 12/14 ann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tile: skate/ hip hop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Utilizzano la rampa di skat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London Tube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bar ale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London Tube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parchetto sotto stata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London Tube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zona co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London Tube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(zona viulè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7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Bar Alex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trada Volver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Gruppo 10 ragazzi (M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Età 16/20 an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tile: truzz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tazionano fuori dal bar, alcuni sulla panchina, alcuni in pied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Chiacchierano tranquillament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Centro CO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Piazzale e pont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Gruppo 7 ragazzi/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(5 M e 2 F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Età 15/16 ann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tile: truzz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Gravitano nell’area CO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ono vivaci e rumoros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3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Parchetto sotto Stata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Gruppo di 8 ragazzi/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(2 F e 6 M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Età 16/17 ann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Di fian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Coppia di ragazze stessa età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tile: truzz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Possibili comportamenti a rischi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Alcuni siedono sulla panchina altri sono in piedi non interagiscono con la coppia di ragaz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Chiacchierano animatament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57200" y="274680"/>
          <a:ext cx="8229600" cy="5851080"/>
        </p:xfrm>
        <a:graphic>
          <a:graphicData uri="http://schemas.openxmlformats.org/drawingml/2006/table">
            <a:tbl>
              <a:tblPr/>
              <a:tblGrid>
                <a:gridCol w="2320560"/>
                <a:gridCol w="2156400"/>
                <a:gridCol w="2156760"/>
                <a:gridCol w="15958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HelveticaNeue"/>
                          <a:ea typeface="Times New Roman"/>
                        </a:rPr>
                        <a:t>Parchetto Viulè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elveticaNeue"/>
                          <a:ea typeface="Times New Roman"/>
                        </a:rPr>
                        <a:t>Presenze ragazzi conosciu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HelveticaNeue"/>
                          <a:ea typeface="Times New Roman"/>
                        </a:rPr>
                        <a:t>Piazza Pertin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1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elveticaNeue"/>
                          <a:ea typeface="Times New Roman"/>
                        </a:rPr>
                        <a:t>Pizzeria del centr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elveticaNeue"/>
                          <a:ea typeface="Times New Roman"/>
                        </a:rPr>
                        <a:t>(Dove abbiamo incontrato il ragazzo che ti conosceva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elveticaNeue"/>
                          <a:ea typeface="Times New Roman"/>
                        </a:rPr>
                        <a:t>Gruppo di 6/8 ragazz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elveticaNeue"/>
                          <a:ea typeface="Times New Roman"/>
                        </a:rPr>
                        <a:t>(M e F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elveticaNeue"/>
                          <a:ea typeface="Times New Roman"/>
                        </a:rPr>
                        <a:t>Età 15/ 20 ann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elveticaNeue"/>
                          <a:ea typeface="Times New Roman"/>
                        </a:rPr>
                        <a:t>Stile: ricercat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elveticaNeue"/>
                          <a:ea typeface="Times New Roman"/>
                        </a:rPr>
                        <a:t>Stazionano sui gradini della Pizzeri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elveticaNeue"/>
                          <a:ea typeface="Times New Roman"/>
                        </a:rPr>
                        <a:t>Chiacchierano tranquillament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elveticaNeue"/>
                          <a:ea typeface="Times New Roman"/>
                        </a:rPr>
                        <a:t>Interagiscono con i ragazzi/e che passan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HelveticaNeue"/>
                          <a:ea typeface="Times New Roman"/>
                        </a:rPr>
                        <a:t>Bar moro caff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elveticaNeue"/>
                          <a:ea typeface="Times New Roman"/>
                        </a:rPr>
                        <a:t>Groppone età diversa 16-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elveticaNeue"/>
                          <a:ea typeface="Times New Roman"/>
                        </a:rPr>
                        <a:t>Chiesa via del pellegri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elveticaNeue"/>
                          <a:ea typeface="Times New Roman"/>
                        </a:rPr>
                        <a:t>Gruppo 7 persone 3f 4m 16-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Arial"/>
              </a:rPr>
              <a:t>Rival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1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848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600" spc="-1" strike="noStrike">
                <a:solidFill>
                  <a:srgbClr val="ffffff"/>
                </a:solidFill>
                <a:latin typeface="Nasalization"/>
              </a:rPr>
              <a:t>AREA</a:t>
            </a:r>
            <a:r>
              <a:rPr b="0" lang="it-IT" sz="6600" spc="-1" strike="noStrike">
                <a:solidFill>
                  <a:srgbClr val="ffff00"/>
                </a:solidFill>
                <a:latin typeface="Nasalization"/>
              </a:rPr>
              <a:t> </a:t>
            </a:r>
            <a:r>
              <a:rPr b="0" lang="it-IT" sz="6600" spc="-1" strike="noStrike">
                <a:solidFill>
                  <a:srgbClr val="ffffff"/>
                </a:solidFill>
                <a:latin typeface="Nasalization"/>
              </a:rPr>
              <a:t>DI SOSTA</a:t>
            </a:r>
            <a:r>
              <a:rPr b="0" i="1" lang="it-IT" sz="3600" spc="-1" strike="noStrike" baseline="70000">
                <a:solidFill>
                  <a:srgbClr val="ffffff"/>
                </a:solidFill>
                <a:latin typeface="Nasalization"/>
              </a:rPr>
              <a:t>©</a:t>
            </a:r>
            <a:br>
              <a:rPr sz="6600"/>
            </a:br>
            <a:r>
              <a:rPr b="0" lang="it-IT" sz="6600" spc="-1" strike="noStrike">
                <a:solidFill>
                  <a:srgbClr val="ffffff"/>
                </a:solidFill>
                <a:latin typeface="Nasalization"/>
              </a:rPr>
              <a:t>	</a:t>
            </a:r>
            <a:r>
              <a:rPr b="0" lang="it-IT" sz="6600" spc="-1" strike="noStrike">
                <a:solidFill>
                  <a:srgbClr val="ffffff"/>
                </a:solidFill>
                <a:latin typeface="Nasalization"/>
              </a:rPr>
              <a:t>	</a:t>
            </a:r>
            <a:r>
              <a:rPr b="0" lang="it-IT" sz="6600" spc="-1" strike="noStrike">
                <a:solidFill>
                  <a:srgbClr val="ffffff"/>
                </a:solidFill>
                <a:latin typeface="Nasalization"/>
              </a:rPr>
              <a:t>	</a:t>
            </a:r>
            <a:r>
              <a:rPr b="0" lang="it-IT" sz="6600" spc="-1" strike="noStrike">
                <a:solidFill>
                  <a:srgbClr val="ffffff"/>
                </a:solidFill>
                <a:latin typeface="Nasalization"/>
              </a:rPr>
              <a:t>	</a:t>
            </a:r>
            <a:r>
              <a:rPr b="0" lang="it-IT" sz="6600" spc="-1" strike="noStrike">
                <a:solidFill>
                  <a:srgbClr val="ffffff"/>
                </a:solidFill>
                <a:latin typeface="Nasalization"/>
              </a:rPr>
              <a:t>	</a:t>
            </a:r>
            <a:r>
              <a:rPr b="0" lang="it-IT" sz="3200" spc="-1" strike="noStrike">
                <a:solidFill>
                  <a:srgbClr val="ff3399"/>
                </a:solidFill>
                <a:latin typeface="London Tube"/>
              </a:rPr>
              <a:t>lavoro di strada</a:t>
            </a:r>
            <a:br>
              <a:rPr sz="3200"/>
            </a:br>
            <a:r>
              <a:rPr b="0" lang="it-IT" sz="3200" spc="-1" strike="noStrike">
                <a:solidFill>
                  <a:srgbClr val="ff3399"/>
                </a:solidFill>
                <a:latin typeface="London Tube"/>
              </a:rPr>
              <a:t>	</a:t>
            </a:r>
            <a:r>
              <a:rPr b="0" lang="it-IT" sz="3200" spc="-1" strike="noStrike">
                <a:solidFill>
                  <a:srgbClr val="ff3399"/>
                </a:solidFill>
                <a:latin typeface="London Tube"/>
              </a:rPr>
              <a:t>	</a:t>
            </a:r>
            <a:r>
              <a:rPr b="0" lang="it-IT" sz="3200" spc="-1" strike="noStrike">
                <a:solidFill>
                  <a:srgbClr val="ff3399"/>
                </a:solidFill>
                <a:latin typeface="London Tube"/>
              </a:rPr>
              <a:t>	</a:t>
            </a:r>
            <a:r>
              <a:rPr b="0" lang="it-IT" sz="3200" spc="-1" strike="noStrike">
                <a:solidFill>
                  <a:srgbClr val="ff3399"/>
                </a:solidFill>
                <a:latin typeface="London Tube"/>
              </a:rPr>
              <a:t>	</a:t>
            </a:r>
            <a:r>
              <a:rPr b="0" lang="it-IT" sz="3200" spc="-1" strike="noStrike">
                <a:solidFill>
                  <a:srgbClr val="ff3399"/>
                </a:solidFill>
                <a:latin typeface="London Tube"/>
              </a:rPr>
              <a:t>	</a:t>
            </a:r>
            <a:r>
              <a:rPr b="0" lang="it-IT" sz="3200" spc="-1" strike="noStrike">
                <a:solidFill>
                  <a:srgbClr val="ff3399"/>
                </a:solidFill>
                <a:latin typeface="London Tube"/>
              </a:rPr>
              <a:t>	</a:t>
            </a:r>
            <a:r>
              <a:rPr b="0" lang="it-IT" sz="1400" spc="-1" strike="noStrike">
                <a:solidFill>
                  <a:srgbClr val="ff3399"/>
                </a:solidFill>
                <a:latin typeface="London Tube"/>
              </a:rPr>
              <a:t>L. 285/97 + D.P.R. 309-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5445000"/>
            <a:ext cx="4249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London Tube"/>
              </a:rPr>
              <a:t>cooperativa sociale</a:t>
            </a:r>
            <a:r>
              <a:rPr b="0" lang="en-US" sz="2400" spc="-1" strike="noStrike">
                <a:solidFill>
                  <a:srgbClr val="ff3399"/>
                </a:solidFill>
                <a:latin typeface="London Tube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London Tube"/>
              </a:rPr>
              <a:t>esser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32360" y="5157720"/>
            <a:ext cx="40323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99"/>
                </a:solidFill>
                <a:latin typeface="London Tube"/>
              </a:rPr>
              <a:t>C.I. di S.</a:t>
            </a:r>
            <a:br>
              <a:rPr sz="2400"/>
            </a:br>
            <a:r>
              <a:rPr b="0" lang="it-IT" sz="2400" spc="-1" strike="noStrike">
                <a:solidFill>
                  <a:srgbClr val="ff3399"/>
                </a:solidFill>
                <a:latin typeface="London Tube"/>
              </a:rPr>
              <a:t>Comuni di </a:t>
            </a:r>
            <a:br>
              <a:rPr sz="2400"/>
            </a:br>
            <a:r>
              <a:rPr b="0" lang="it-IT" sz="2400" spc="-1" strike="noStrike">
                <a:solidFill>
                  <a:srgbClr val="ff3399"/>
                </a:solidFill>
                <a:latin typeface="London Tube"/>
              </a:rPr>
              <a:t>Beinasco Bruino Orbassano Piossasco Rivalta Volv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57200" y="274680"/>
          <a:ext cx="8229600" cy="5851080"/>
        </p:xfrm>
        <a:graphic>
          <a:graphicData uri="http://schemas.openxmlformats.org/drawingml/2006/table">
            <a:tbl>
              <a:tblPr/>
              <a:tblGrid>
                <a:gridCol w="2320560"/>
                <a:gridCol w="2156400"/>
                <a:gridCol w="2156760"/>
                <a:gridCol w="159588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LUOGHI di RITRO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GRUPP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TIPOLOGIA GRUPP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Ipote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76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Piazza Martiri della Liber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Davanti Bibliotec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Gruppi di ragazzi/e (M e F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Età 13/17 ann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i spostano tra la Biblioteca e la Panetteri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Molto rumorosi – alleg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Alcuni hanno bici e motorin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London Tube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percorso ca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London Tube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gruppo grandi tet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London Tube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gruppi parco del castell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London Tube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pista sk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88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Pub / Cremeri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Piazza della Pac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Utilizzato dai ragazzi/e anche in ore seral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8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Parco del Castell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Gruppo di 6 ragazzi (M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Età 15/ 17 ann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tile: sportiv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tazionano all’ingresso del parco, dalla parte area pedonal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Giocano a calci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ono rumoros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Motorino parcheggiat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2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Parco del Castell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Gruppo di 5 ragazze (F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Età 13/ 15 ann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tile: truzz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tanno sulle panchin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Giocano e parlano pacatament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57200" y="274680"/>
          <a:ext cx="8229600" cy="5851080"/>
        </p:xfrm>
        <a:graphic>
          <a:graphicData uri="http://schemas.openxmlformats.org/drawingml/2006/table">
            <a:tbl>
              <a:tblPr/>
              <a:tblGrid>
                <a:gridCol w="2320560"/>
                <a:gridCol w="2156400"/>
                <a:gridCol w="2156760"/>
                <a:gridCol w="1595880"/>
              </a:tblGrid>
              <a:tr h="186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Parco del Castello / Rotond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Via Maroncell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Gruppo di 6 ragazzi (M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Età 15/ 17 ann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tile: ricercat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tazionano sul muretto della rotonda, si spostano attraverso il parco verso la piazza della Bibliote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Usano la Panetter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Interagiscono con i ragazzi/e che incontran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61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Pensilina Via Modest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Di fianco Pista di Skat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Gruppo 8 ragazzi/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(2 F e 6 M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Età 15/17 an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tile: truzz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Arrivano dalla piazza e stazionano sotto la pensilina di fianco la pista di skat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Non interagiscono con  l’altro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614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Pista di Skat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Via Modest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Gruppo di 9 ragazzi/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(3 F e 6 M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Età 13/ 20 ann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tile: skate / hip h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Usano le rampe con skate, pattini e monopattin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Alcuni hanno la macchin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Grandi e piccoli interagiscono tra di lor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5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TETTI FRANC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Gruppo grandi del CA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11280" y="836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Arial"/>
              </a:rPr>
              <a:t>Volv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7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57200" y="282600"/>
          <a:ext cx="8229600" cy="6459480"/>
        </p:xfrm>
        <a:graphic>
          <a:graphicData uri="http://schemas.openxmlformats.org/drawingml/2006/table">
            <a:tbl>
              <a:tblPr/>
              <a:tblGrid>
                <a:gridCol w="2320920"/>
                <a:gridCol w="2155680"/>
                <a:gridCol w="2157480"/>
                <a:gridCol w="15955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LUOGHI di RITRO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GRUPP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TIPOLOGIA GRUPP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Azioni possibi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935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Pensilina davanti al Comun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Via Ponsati – Piazza Muriald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Gruppo 10/12 ragazzi/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(equamente divisi M e F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Età 13/ 20 ann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tile: truzzo / ricercat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tazionano tra la pensilina, i gradini della Chiesa e il parcheggio aut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Interagiscono tra di loro e con altri ragazzi/e di passaggi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Alcuni hanno auto proprie e motori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Chiacchierano pacatamente; si prendono in gir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London Tube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gruppo di via Moli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London Tube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cortili via garibald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0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Piazza del Molin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Via Molin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Gruppo 8 ragazzi/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(3 F e 5 M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Età 16/20 ann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tile: truzz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tazionano tra i gradini posteriori del Fruttivendolo e il bar Cremeria della piazz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Alcuni arrivano in macchina (alcuni sono vestiti da lavoro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Parlano animatamente tra lor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Interagiscono con gli adulti intorn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Piazza del Molin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Piccoli gruppi di ragazzi/e (M e F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Età 12/15 ann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i muovono continuamente, giocano e si rincorro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Entrano e escono dall’Aliment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Parco giochi / parchetto recintat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Via Piossasco angolo via Dalla Chies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Gruppo 10 ragazzi (M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Età 16/19 ann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tile: truzz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tazionano sulle panch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Parlano animatament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enza mezzi prop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Giardin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Case popolari Via Garibald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16000" y="620640"/>
            <a:ext cx="69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 prossimi me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3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116000" y="620640"/>
            <a:ext cx="69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 str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58920" y="2000160"/>
            <a:ext cx="597708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London Tub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ondon Tube"/>
              </a:rPr>
              <a:t>Aggan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London Tub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ondon Tube"/>
              </a:rPr>
              <a:t>Relazi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London Tub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ondon Tube"/>
              </a:rPr>
              <a:t>Prime attiv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London Tub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681800" cy="824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a scuol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03280" y="4723920"/>
            <a:ext cx="662472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London Tube"/>
              </a:rPr>
              <a:t>Rischia di scegli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ondon Tube"/>
              </a:rPr>
              <a:t>prevenzione e informazio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ondon Tube"/>
              </a:rPr>
              <a:t>Rivolte alle scuole med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7" dur="20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gancio e collaborazione con reti istituzionali e inform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borazione con CA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ecipazione ai tavoli tecn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ettazione eventi e manifesta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6000" y="620640"/>
            <a:ext cx="69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ondon Tube"/>
              </a:rPr>
              <a:t>Il territo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6093000"/>
            <a:ext cx="3168720" cy="100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3" dur="2000" fill="hold"/>
                                        <p:tgtEl>
                                          <p:spTgt spid="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7" dur="2000" fill="hold"/>
                                        <p:tgtEl>
                                          <p:spTgt spid="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3399"/>
                </a:solidFill>
                <a:latin typeface="London Tube"/>
              </a:rPr>
              <a:t>www.areazero.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9999"/>
                </a:solidFill>
                <a:uFillTx/>
                <a:latin typeface="London Tube"/>
                <a:hlinkClick r:id="rId2"/>
              </a:rPr>
              <a:t>areadisosta@areazero.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3399"/>
                </a:solidFill>
                <a:latin typeface="London Tube"/>
              </a:rPr>
              <a:t>Contatto refer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London Tube"/>
              </a:rPr>
              <a:t>Tel. 335-14324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3399"/>
                </a:solidFill>
                <a:latin typeface="London Tube"/>
              </a:rPr>
              <a:t>Contatto ragazz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3399"/>
                </a:solidFill>
                <a:latin typeface="London Tube"/>
              </a:rPr>
              <a:t>Solo sms lunedì-sabato dalle 15 alle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London Tube"/>
              </a:rPr>
              <a:t>Tel. 333-272096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395280" y="150840"/>
          <a:ext cx="8424720" cy="670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50840"/>
                    <a:ext cx="8424720" cy="670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London Tube"/>
              </a:rPr>
              <a:t>Programm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ondon Tub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ondon Tube"/>
              </a:rPr>
              <a:t>Present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ondon Tub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ondon Tube"/>
              </a:rPr>
              <a:t>Obiett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ondon Tub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ondon Tube"/>
              </a:rPr>
              <a:t>Le 5 parole chiave del proget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ondon Tub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ondon Tube"/>
              </a:rPr>
              <a:t>I primi mesi di lavoro nei 6 comu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ondon Tub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ondon Tube"/>
              </a:rPr>
              <a:t>Fasi successive: i prossimi me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848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600" spc="-1" strike="noStrike">
                <a:solidFill>
                  <a:srgbClr val="ffffff"/>
                </a:solidFill>
                <a:latin typeface="Nasalization"/>
              </a:rPr>
              <a:t>AREA</a:t>
            </a:r>
            <a:r>
              <a:rPr b="0" lang="it-IT" sz="6600" spc="-1" strike="noStrike">
                <a:solidFill>
                  <a:srgbClr val="ffff00"/>
                </a:solidFill>
                <a:latin typeface="Nasalization"/>
              </a:rPr>
              <a:t> </a:t>
            </a:r>
            <a:r>
              <a:rPr b="0" lang="it-IT" sz="6600" spc="-1" strike="noStrike">
                <a:solidFill>
                  <a:srgbClr val="ffffff"/>
                </a:solidFill>
                <a:latin typeface="Nasalization"/>
              </a:rPr>
              <a:t>DI SOSTA</a:t>
            </a:r>
            <a:r>
              <a:rPr b="0" i="1" lang="it-IT" sz="3600" spc="-1" strike="noStrike" baseline="70000">
                <a:solidFill>
                  <a:srgbClr val="ffffff"/>
                </a:solidFill>
                <a:latin typeface="Nasalization"/>
              </a:rPr>
              <a:t>©</a:t>
            </a:r>
            <a:br>
              <a:rPr sz="6600"/>
            </a:br>
            <a:r>
              <a:rPr b="0" lang="it-IT" sz="6600" spc="-1" strike="noStrike">
                <a:solidFill>
                  <a:srgbClr val="ffffff"/>
                </a:solidFill>
                <a:latin typeface="Nasalization"/>
              </a:rPr>
              <a:t>	</a:t>
            </a:r>
            <a:r>
              <a:rPr b="0" lang="it-IT" sz="6600" spc="-1" strike="noStrike">
                <a:solidFill>
                  <a:srgbClr val="ffffff"/>
                </a:solidFill>
                <a:latin typeface="Nasalization"/>
              </a:rPr>
              <a:t>	</a:t>
            </a:r>
            <a:r>
              <a:rPr b="0" lang="it-IT" sz="6600" spc="-1" strike="noStrike">
                <a:solidFill>
                  <a:srgbClr val="ffffff"/>
                </a:solidFill>
                <a:latin typeface="Nasalization"/>
              </a:rPr>
              <a:t>	</a:t>
            </a:r>
            <a:r>
              <a:rPr b="0" lang="it-IT" sz="6600" spc="-1" strike="noStrike">
                <a:solidFill>
                  <a:srgbClr val="ffffff"/>
                </a:solidFill>
                <a:latin typeface="Nasalization"/>
              </a:rPr>
              <a:t>	</a:t>
            </a:r>
            <a:r>
              <a:rPr b="0" lang="it-IT" sz="6600" spc="-1" strike="noStrike">
                <a:solidFill>
                  <a:srgbClr val="ffffff"/>
                </a:solidFill>
                <a:latin typeface="Nasalization"/>
              </a:rPr>
              <a:t>	</a:t>
            </a:r>
            <a:r>
              <a:rPr b="0" lang="it-IT" sz="3200" spc="-1" strike="noStrike">
                <a:solidFill>
                  <a:srgbClr val="ff3399"/>
                </a:solidFill>
                <a:latin typeface="London Tube"/>
              </a:rPr>
              <a:t>lavoro di strada</a:t>
            </a:r>
            <a:br>
              <a:rPr sz="3200"/>
            </a:br>
            <a:r>
              <a:rPr b="0" lang="it-IT" sz="3200" spc="-1" strike="noStrike">
                <a:solidFill>
                  <a:srgbClr val="ff3399"/>
                </a:solidFill>
                <a:latin typeface="London Tube"/>
              </a:rPr>
              <a:t>	</a:t>
            </a:r>
            <a:r>
              <a:rPr b="0" lang="it-IT" sz="3200" spc="-1" strike="noStrike">
                <a:solidFill>
                  <a:srgbClr val="ff3399"/>
                </a:solidFill>
                <a:latin typeface="London Tube"/>
              </a:rPr>
              <a:t>	</a:t>
            </a:r>
            <a:r>
              <a:rPr b="0" lang="it-IT" sz="3200" spc="-1" strike="noStrike">
                <a:solidFill>
                  <a:srgbClr val="ff3399"/>
                </a:solidFill>
                <a:latin typeface="London Tube"/>
              </a:rPr>
              <a:t>	</a:t>
            </a:r>
            <a:r>
              <a:rPr b="0" lang="it-IT" sz="3200" spc="-1" strike="noStrike">
                <a:solidFill>
                  <a:srgbClr val="ff3399"/>
                </a:solidFill>
                <a:latin typeface="London Tube"/>
              </a:rPr>
              <a:t>	</a:t>
            </a:r>
            <a:r>
              <a:rPr b="0" lang="it-IT" sz="3200" spc="-1" strike="noStrike">
                <a:solidFill>
                  <a:srgbClr val="ff3399"/>
                </a:solidFill>
                <a:latin typeface="London Tube"/>
              </a:rPr>
              <a:t>	</a:t>
            </a:r>
            <a:r>
              <a:rPr b="0" lang="it-IT" sz="3200" spc="-1" strike="noStrike">
                <a:solidFill>
                  <a:srgbClr val="ff3399"/>
                </a:solidFill>
                <a:latin typeface="London Tube"/>
              </a:rPr>
              <a:t>	</a:t>
            </a:r>
            <a:r>
              <a:rPr b="0" lang="it-IT" sz="1400" spc="-1" strike="noStrike">
                <a:solidFill>
                  <a:srgbClr val="ff3399"/>
                </a:solidFill>
                <a:latin typeface="London Tube"/>
              </a:rPr>
              <a:t>L. 285/97 + D.P.R. 309-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5445000"/>
            <a:ext cx="4249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London Tube"/>
              </a:rPr>
              <a:t>cooperativa sociale</a:t>
            </a:r>
            <a:r>
              <a:rPr b="0" lang="en-US" sz="2400" spc="-1" strike="noStrike">
                <a:solidFill>
                  <a:srgbClr val="ff3399"/>
                </a:solidFill>
                <a:latin typeface="London Tube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London Tube"/>
              </a:rPr>
              <a:t>esser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32360" y="5157720"/>
            <a:ext cx="40323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99"/>
                </a:solidFill>
                <a:latin typeface="London Tube"/>
              </a:rPr>
              <a:t>C.I. di S.</a:t>
            </a:r>
            <a:br>
              <a:rPr sz="2400"/>
            </a:br>
            <a:r>
              <a:rPr b="0" lang="it-IT" sz="2400" spc="-1" strike="noStrike">
                <a:solidFill>
                  <a:srgbClr val="ff3399"/>
                </a:solidFill>
                <a:latin typeface="London Tube"/>
              </a:rPr>
              <a:t>Comuni di </a:t>
            </a:r>
            <a:br>
              <a:rPr sz="2400"/>
            </a:br>
            <a:r>
              <a:rPr b="0" lang="it-IT" sz="2400" spc="-1" strike="noStrike">
                <a:solidFill>
                  <a:srgbClr val="ff3399"/>
                </a:solidFill>
                <a:latin typeface="London Tube"/>
              </a:rPr>
              <a:t>Beinasco Bruino Orbassano Piossasco Rivalta Volv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ondon Tube"/>
              </a:rPr>
              <a:t>Presentazion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1928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London Tub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3399"/>
                </a:solidFill>
                <a:latin typeface="London Tube"/>
              </a:rPr>
              <a:t>La storia 2000-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London Tub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3399"/>
                </a:solidFill>
                <a:latin typeface="London Tube"/>
              </a:rPr>
              <a:t>Spazio all’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London Tub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3399"/>
                </a:solidFill>
                <a:latin typeface="London Tube"/>
              </a:rPr>
              <a:t>Percorsi per strada I e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London Tub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3399"/>
                </a:solidFill>
                <a:latin typeface="London Tube"/>
              </a:rPr>
              <a:t>Salute sotto sh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London Tub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3399"/>
                </a:solidFill>
                <a:latin typeface="London Tube"/>
              </a:rPr>
              <a:t>I.E.A.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London Tub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3399"/>
                </a:solidFill>
                <a:latin typeface="London Tube"/>
              </a:rPr>
              <a:t>G.P.Q.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London Tub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3399"/>
                </a:solidFill>
                <a:latin typeface="London Tube"/>
              </a:rPr>
              <a:t>Piossasco luglio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ondon Tube"/>
              </a:rPr>
              <a:t>Obiettiv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London Tub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ondon Tube"/>
              </a:rPr>
              <a:t>Sensibilizzare gli adolescenti e i giovani del territorio sui temi della prevenzione all’abuso di sostanze e dei rischi correla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London Tub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ondon Tube"/>
              </a:rPr>
              <a:t>Promuovere una cultura della partecipazione, del protagonismo giovanile e dell’autodeterminazione, partendo dalle risorse proprie dei giovani, nell’ottica di sviluppo di comunità competent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London Tub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ondon Tube"/>
              </a:rPr>
              <a:t>Garantire attenzione prioritaria ai giovani che sperimentano situazione di disagio, al fine di promuoverne l’inserimento sociale, anche mediante opportunità concrete di sperimentazione positiva, in un ottica di prevenzione e di contrasto all’emarginazione ed alla devianz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London Tub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ondon Tube"/>
              </a:rPr>
              <a:t>Promuovere il senso di appartenenza ad un gruppo, al quartiere, alla comunità, mediante il sostegno al protagonismo attiv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London Tub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ondon Tube"/>
              </a:rPr>
              <a:t>Realizzare interventi concertati e coogestiti con i giovani dei gruppi agganciati utilizzando la collaborazione di altri giovani delle associazioni del territo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London Tub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ondon Tube"/>
              </a:rPr>
              <a:t>Progettare in sinergia con enti locali, pubblici e privati operanti sul territorio al fine di potenziare il lavoro di prevenzione alle dipendenze, con  riferimento al consumo giovanile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London Tub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ondon Tube"/>
              </a:rPr>
              <a:t>Sensibilizzare i genitori dei giovani e gli adulti del territorio sulle tematiche riguardanti il consumo di sostanze da parte dei giovani, sulla cultura della notte, del divertimento in generale favorendo lo scambio e la comunicazione intergrupp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London Tub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ondon Tube"/>
              </a:rPr>
              <a:t>Promuovere iniziative di self-help da parte dei genitori del territor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London Tub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ondon Tube"/>
              </a:rPr>
              <a:t>Aumentare il senso di appartenenza alla comunit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London Tub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ondon Tube"/>
              </a:rPr>
              <a:t>Promuovere iniziative sul territorio sui temi legati all’abuso di sostanze stupeface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London Tub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ondon Tube"/>
              </a:rPr>
              <a:t>Aumentare l’acquisizione  e la capacità di apprendere, sviluppare e attivare fattori protettivi da parte dei giovani del territorio e della comunità locale stes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London Tub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ondon Tube"/>
              </a:rPr>
              <a:t>Aumentare la conoscenza e la fruizione delle risorse locali a favore dei giovani promuovendone l’utilizz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3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3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3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3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3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3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3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3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3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ondon Tube"/>
              </a:rPr>
              <a:t>Le 5 parole chiave del proget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16360" y="5300280"/>
            <a:ext cx="181116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London Tube"/>
              </a:rPr>
              <a:t>po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00720" y="1484280"/>
            <a:ext cx="266364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ff"/>
                </a:solidFill>
                <a:latin typeface="London Tube"/>
              </a:rPr>
              <a:t>comunit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00720" y="3716280"/>
            <a:ext cx="18111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London Tube"/>
              </a:rPr>
              <a:t>scel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1844640"/>
            <a:ext cx="341964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London Tube"/>
              </a:rPr>
              <a:t>protagonis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508640"/>
            <a:ext cx="39607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London Tube"/>
              </a:rPr>
              <a:t>consapevolez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London Tube"/>
              </a:rPr>
              <a:t>novembre 2006-febbraio 2007</a:t>
            </a:r>
            <a:br>
              <a:rPr sz="4000"/>
            </a:br>
            <a:r>
              <a:rPr b="1" lang="it-IT" sz="4000" spc="-1" strike="noStrike">
                <a:solidFill>
                  <a:srgbClr val="000000"/>
                </a:solidFill>
                <a:latin typeface="London Tube"/>
              </a:rPr>
              <a:t>conoscenza del territorio</a:t>
            </a:r>
            <a:br>
              <a:rPr sz="4000"/>
            </a:br>
            <a:r>
              <a:rPr b="1" lang="it-IT" sz="4000" spc="-1" strike="noStrike">
                <a:solidFill>
                  <a:srgbClr val="000000"/>
                </a:solidFill>
                <a:latin typeface="London Tube"/>
              </a:rPr>
              <a:t>mappatu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London Tube"/>
              </a:rPr>
              <a:t>Beinasco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7" dur="2000" fill="hold"/>
                                        <p:tgtEl>
                                          <p:spTgt spid="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79280" y="44280"/>
          <a:ext cx="8640720" cy="6711840"/>
        </p:xfrm>
        <a:graphic>
          <a:graphicData uri="http://schemas.openxmlformats.org/drawingml/2006/table">
            <a:tbl>
              <a:tblPr/>
              <a:tblGrid>
                <a:gridCol w="2436840"/>
                <a:gridCol w="2262240"/>
                <a:gridCol w="2266920"/>
                <a:gridCol w="1674720"/>
              </a:tblGrid>
              <a:tr h="24480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LUOGHI di RITROV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GRUPP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TIPOLOGIA GRUPP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IPOTESI LAVO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0164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Giardinetto Via Montell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di fianco “Uffici comunali”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ondon Tube"/>
                        </a:rPr>
                        <a:t>Vari grupp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intervento area attigua a malinte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intervento con gruppo passerella zu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0164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Campo da Baske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Via San Giacomo angol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Via Mascagn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Dietro Ser.T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ondon Tube"/>
                        </a:rPr>
                        <a:t>Vari grupp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15848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Corso Cavou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Davanti al Tabaccai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Gruppo di 8 ragazzi/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(3 F e 5 M) età 15/17 an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tile: truzz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A piedi – si spostano con l’autobu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Interagiscono con altri ragazzi/ e che passano nel vial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ono apparentemente tranquilli e parlano con toni di voce bass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936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Corso Cavou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Parco gioch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Piccoli gruppi sparsi di ragazzi/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(M e F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età variabile tra i 13 e i 17 an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tazionano sulle panchine del Parco Gioch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0164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Piazza del Municipi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Piazza V. Alfier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Gruppo di 5 ragazzi (M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Età 16/18 ann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tile: ricerca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tazionano sul muretto davanti al Municipi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Chiacchierano pacatam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5392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Parchetto sull’ingresso della Passerella “Albano Zuin”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Gruppo di 5 ragazzi/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(1 F e 4 M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Età 15/17 ann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tile: ricercat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Nessun mezzo propri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tazionano tra le panchine e il “quadrato”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Chiacchierano pacatament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0200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Campo da calci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Strada Torino angolo Via Pio la Torr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Gruppo 7 ragazzi (M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Età 12/14 ann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Giocano a calci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Di fianco, nel piazzale, gruppo di adulti età 30/35 an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con auto propri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708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Pub Malinteso e zona limitrof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Via Pio la Torr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Frequentato da giovani adulti e gruppo giova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0164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Centro Commerciale IPER COOP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Mc Donald’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Gruppi sparsi di ragazzi/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Età divers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Diverse tipolog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London Tube"/>
                          <a:ea typeface="Times New Roman"/>
                        </a:rPr>
                        <a:t>Gravitano tra il Mc Donald’s e l’interno del Centro Commercial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17:44:14Z</dcterms:created>
  <dc:creator>Fabrizio Daffara</dc:creator>
  <dc:description/>
  <dc:language>en-US</dc:language>
  <cp:lastModifiedBy> </cp:lastModifiedBy>
  <dcterms:modified xsi:type="dcterms:W3CDTF">2007-03-07T13:10:06Z</dcterms:modified>
  <cp:revision>12</cp:revision>
  <dc:subject/>
  <dc:title>Area di sosta© </dc:title>
</cp:coreProperties>
</file>