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029-3BAB-4F23-8D4F-B226CE92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E8C-32D4-4A51-B999-F586B874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BE2-D5B7-4FEB-A142-0197BBE7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F98-2362-4100-B5AD-660D0345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7018-4E76-4875-A76C-61BFD82A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F550-B0A0-499A-BC7D-E4ED2536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69D9-5586-4086-935D-100DF600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06E2-9676-4CD9-9844-617621F4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DDCC-CC05-4CD5-8AED-3E2368AB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EE20-B299-4026-BC06-A88C37AF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B417-663F-43FF-A843-867C7709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892-87A2-45D0-8195-013E055D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F39F-DC93-484D-B597-EED74053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C7A9-4A70-4AB4-84EA-F1502093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4650-F1E1-4589-A792-120117D3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74F6-0897-4FD9-B73D-9B13C10C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D806-B31F-4CFC-950B-ED50C4C8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967-9F62-465E-BCBF-18D1FE83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E00-C58D-4E4F-940D-DAC2B7D2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C2A-2B6A-4492-89B2-9CA26441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E81-51A3-476F-8B02-BF088280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EE8-48DA-423B-A4D7-C3D8A509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C12-CECF-4BAB-86CA-D451ABB0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200-95A2-4A15-B076-A54399DD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6589-6C69-4731-874B-DB4E62E30D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3832-D7D9-48F7-9E0B-10D5D2E319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1. Risultati Conseguit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Raccolta istanze giovanili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ffffcc"/>
                </a:solidFill>
                <a:latin typeface="Times New Roman"/>
              </a:rPr>
              <a:t>il progetto rileva elementi che contribuiscono ad aggiornare ed approfondire la lettura della realtà giovanile locale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r>
              <a:rPr b="0" i="1" lang="it-IT" sz="1000" spc="-1" strike="noStrike">
                <a:solidFill>
                  <a:srgbClr val="ffffcc"/>
                </a:solidFill>
                <a:latin typeface="Times New Roman"/>
              </a:rPr>
              <a:t>mancanza di servizi/progetti finalizzati e diretti al contatto con giovani a largo raggio sul territorio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r>
              <a:rPr b="0" i="1" lang="it-IT" sz="1000" spc="-1" strike="noStrike">
                <a:solidFill>
                  <a:srgbClr val="ffffcc"/>
                </a:solidFill>
                <a:latin typeface="Times New Roman"/>
              </a:rPr>
              <a:t>Bisogno di informazione,  sostegno e connessione (con modalità informali) su tematiche quali dipendenze, sessualità, rapporto con il territorio, con il mondo adulto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r>
              <a:rPr b="0" i="1" lang="it-IT" sz="1000" spc="-1" strike="noStrike">
                <a:solidFill>
                  <a:srgbClr val="ffffcc"/>
                </a:solidFill>
                <a:latin typeface="Times New Roman"/>
              </a:rPr>
              <a:t>Elevata problematicità nei consumi di sostanze, legali ed illegali, elevato rischio nel “tempo-notte”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r>
              <a:rPr b="0" i="1" lang="it-IT" sz="1000" spc="-1" strike="noStrike">
                <a:solidFill>
                  <a:srgbClr val="ffffcc"/>
                </a:solidFill>
                <a:latin typeface="Times New Roman"/>
              </a:rPr>
              <a:t>Percezione dei gruppi giovanili contattati di non essere ritenuti importanti dalla P.A., di non contare niente, di essere portatori di bisogni irrilevanti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Contatto e prossimità al disagio giovanil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Collaborazione attiva con le realtà educative/animative del territori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Aggancio e relazione con numerosi giovani del territori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Trasmissione e costruzione partecipata di informazione su tematiche inerenti i comportamenti a rischi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cc"/>
                </a:solidFill>
                <a:latin typeface="Times New Roman"/>
              </a:rPr>
              <a:t>Attivazione di numerose relazioni educative significativ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Rapporto di fiduci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cc"/>
                </a:solidFill>
                <a:latin typeface="Times New Roman"/>
              </a:rPr>
              <a:t>Risposta positiv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operativa Sociale Esserci-C. I. di S.            Educativa di Strad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2. Incontro con i Giovani. I Vide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possibilità di incontro e di cortocicuito tra giovani e P.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estrema disponibilità dei giovani ad incontrare il </a:t>
            </a:r>
            <a:r>
              <a:rPr b="0" i="1" lang="en-US" sz="1600" spc="-1" strike="noStrike">
                <a:solidFill>
                  <a:srgbClr val="ffffcc"/>
                </a:solidFill>
                <a:latin typeface="Times New Roman"/>
              </a:rPr>
              <a:t>medium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paccato della realtà giovanile del territorio con particolare vicinanza alle aree ed ai gruppi “a rischio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ocumento ad uso esclusivamente INTERNO (in quanto privo di dichiarazione privacy L.675/96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operativa Sociale Esserci-C. I. di S.            Educativa di Strad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3. Il Video ZONA FRANK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Testimonianza del lavoro svolto da Zona Franka, progetto di animazione di strad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Incontro con i giovani nei cortili e nelle aree classiche  di ritrov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operativa Sociale Esserci-C. I. di S.            Educativa di Strad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4. Riflessioni al Video ZONA FRANK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Necessità di “arrivare” dai giovani, a casa loro, nei loro luoghi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carsa percezione dei giovani delle opportunità a loro disposizione nel Territori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ifficoltà ad attivare autonomamente delle risorse o dei progetti mirati al benessere, all’intrattenimento, al protagonismo del proprio gruppo o della propria comunità ristret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operativa Sociale Esserci-C. I. di S.            Educativa di Strad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5. Il Video autunno-inverno 2004-2005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asce con due obiettiv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33440" indent="38160"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Costruire una piattaforma di lettura di bisogni e istanze giovanili per le prossime progettazion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33440" indent="38160">
              <a:spcBef>
                <a:spcPts val="34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ssere tramite tra i giovani e le P.A. del Territori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334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ostruzione di domande promossa dagli educatori con la collaborazione dei giovan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Occasione per dialogare con i giovani sulle tematiche riguardanti l’appartenenza alla propria comunità, al proprio comu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33440" indent="381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operativa Sociale Esserci-C. I. di S.            Educativa di Strad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6. Riflessioni Video L.16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iffuso sentimento di abbandono da parte della P.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ifficoltà a comprendere le motivazioni di alcune scelte politich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istanza dei giovani dalla vita politica del proprio comu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apacità nel percepire le opportunità a disposizione laddove esistent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sofferenza diffusa rispetto a proposte di stimolo al protagonismo, all’attivazio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operativa Sociale Esserci-C. I. di S.            Educativa di Strad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idis </cp:lastModifiedBy>
  <dcterms:modified xsi:type="dcterms:W3CDTF">2005-06-15T17:03:06Z</dcterms:modified>
  <cp:revision>3</cp:revision>
  <dc:subject/>
  <dc:title>1. Risultati Conseguiti</dc:title>
</cp:coreProperties>
</file>