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022-8F38-4ADA-8EA3-35823EAA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28F-4867-4E2C-BE2D-508CF814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6F0-C3C0-4704-9A6B-FB180AE5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AF4-E249-4F4D-9BD6-9DCA0CC5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D543-5EEE-43C6-834A-6FF5BDBB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3134-C114-4A98-9A6D-383D354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713-D579-4A79-9B0D-C7C03BF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559-ED4E-4E9A-969C-E1EE65A9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F3AC-976C-4520-AEF6-39C09D7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739-BEA8-4EC7-B4C5-2C9C26E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4A0-4B67-4D29-9A1A-719829B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D10-8873-4A82-B9FB-E3CAAA62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C886-CE02-4937-A332-567536A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EC4-37F7-4449-8111-46747F5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8D0-A8E1-4670-AD1F-5D7FA0A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1C53-B87C-485B-990C-D8C8E115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069-45A3-4926-881E-4D7F5F0B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521-CDA0-4213-9006-705FF6B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A98-EFE7-447E-ADD8-737235B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468-4C54-4953-961C-406CAB6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1D7-BC2D-474E-AC24-BF99B8F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A32-4EC0-4DBB-A61B-1C30A7B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652-171D-4468-AF52-C58D0B7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D96-98B6-43DA-842C-B4CEBC9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C27-CB00-4583-9592-348C68172FD8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7104-B06B-4C0C-8A37-5238ECB58E76}" type="slidenum"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980360"/>
            <a:ext cx="79246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3399"/>
                </a:solidFill>
                <a:latin typeface="Tahoma"/>
              </a:rPr>
              <a:t>Lavoro di Strada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Tahoma"/>
              </a:rPr>
              <a:t>uno sguardo ai progetti CIdiS…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ahoma"/>
              </a:rPr>
              <a:t>16 GIUGNO 2005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CIdiS – Cooperativa Sociale Esserci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5A0C-8ADE-42AA-8A57-51F400E6B8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 risultati conseguiti…</a:t>
            </a:r>
            <a:br>
              <a:rPr sz="4400"/>
            </a:br>
            <a:r>
              <a:rPr b="0" i="1" lang="en-US" sz="3200" spc="-1" strike="noStrike">
                <a:solidFill>
                  <a:srgbClr val="003399"/>
                </a:solidFill>
                <a:latin typeface="Tahoma"/>
              </a:rPr>
              <a:t>raccolta di istanze giovanili: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bisogno di informazione,  sostegno e connessione (con modalità informali) su temi quali dipendenze, sessualità, rapporto col territorio e col mondo adulto;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1818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levata problematicità nei consumi di sostanze, legali ed illegali, elevato rischio nel “tempo-notte”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1818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cezione dei gruppi contattati di non essere ritenuti importanti dalla P.A., di non contare niente, di essere portatori di bisogni considerati come irrilevanti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1818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181800" indent="-18180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cezione dei ragazzi di carenza di servizi/progetti finalizzati e diretti al contatto con giovani a largo raggio sul territorio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18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178-614F-4513-9920-7136CE2B7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 risultati conseguiti…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828800"/>
            <a:ext cx="89154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ontatto e prossimità al disagio giovanil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collaborazione attiva con realtà educative/animative locali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aggancio e relazione con numerosi giovani del territorio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trasmissione e costruzione partecipata di informazione su tematiche inerenti i comportamenti a rischio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ttivazione di numerose relazioni educative significati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rapporto di fiducia con i ragazzi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624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risposta positiva dei ragazzi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387-FB17-4E05-8C05-9508C2E7A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e valutazioni esterne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tutti i progetti di lavoro di strada CidiS presentati per i diversi bandi, ad oggi, sono stati finanziati, collocandosi ai primi posti delle graduatori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  <a:ea typeface="Arial"/>
              </a:rPr>
              <a:t>il “Lavoro di strada” CIdiS è inserito fra le 13 “Espe-rienze e buone pratiche con la Legge 285/97”     (2002 ricognizione nazionale su 600 progetti, Istituto degli Innocenti di Firenze)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  <a:ea typeface="Arial"/>
              </a:rPr>
              <a:t>il “Lavoro di strada” CIdiS è stato riconosciuto fra i progetti più innovativi per il miglioramento della capacità di risposta dei servizi socio - assistenziali (2003 - bando nazionale EuroP.A.)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5F5-036E-47FC-A5F9-C49F3F0E30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99"/>
                </a:solidFill>
                <a:latin typeface="Tahoma"/>
              </a:rPr>
              <a:t>Incontro con i Giovani: i video…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sclusivament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un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spaccato della realtà giovanile locale: quella incontrata in strada, con particolare vicinanza alle aree ed ai gruppi marcatament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“a rischio”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ossibilità di incontro e rischio di “cortocicuito” tra giovani e Pubblica Amministra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strema disponibilità dei giovani ad incontrare il “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medium”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ocumenti ad uso esclusivament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INTERN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, in quanto privo di autorizzazione/dichiarazione privacy - L.675/96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F8A-1184-4A16-975D-536A98CA50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l Video </a:t>
            </a:r>
            <a:r>
              <a:rPr b="0" i="1" lang="en-US" sz="4400" spc="-1" strike="noStrike">
                <a:solidFill>
                  <a:srgbClr val="003399"/>
                </a:solidFill>
                <a:latin typeface="Tahoma"/>
              </a:rPr>
              <a:t>ZONA FRANKA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autunno/inverno 2003;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testimonianza del lavoro svolto da </a:t>
            </a:r>
            <a:r>
              <a:rPr b="0" i="1" lang="en-US" sz="3000" spc="-1" strike="noStrike">
                <a:solidFill>
                  <a:srgbClr val="000066"/>
                </a:solidFill>
                <a:latin typeface="Tahoma"/>
              </a:rPr>
              <a:t>Zona Franka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, intervento di animazione di strada;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incontro con i giovani nei cortili e nelle aree “classiche”  di ritrovo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921-B977-47A4-A927-C32B924BAC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l Video </a:t>
            </a: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ZONA FRANKA: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lcune riflessioni degli operatori…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cessità di “arrivare” dai giovani, a casa loro, nei loro luogh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carsa percezione dei giovani delle opportunità a loro disposizione nel Territorio e forte difficoltà di utilizz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ifficoltà dei ragazzi ad attivare autonomamente  risorse o progetti mirati al benessere, all’intrat-tenimento, al protagonismo del proprio gruppo o della propria comunità ristrett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362-DAF8-4DB0-89DE-3ACE26208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l Video</a:t>
            </a:r>
            <a:r>
              <a:rPr b="0" i="1" lang="en-US" sz="4400" spc="-1" strike="noStrike">
                <a:solidFill>
                  <a:srgbClr val="003399"/>
                </a:solidFill>
                <a:latin typeface="Tahoma"/>
              </a:rPr>
              <a:t> autunno-inverno 04-05…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asce con tre obiettiv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are voce ai ragazzi, promuoverne la partecipazion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sere un tramite tra i giovani e le P.A. locali (dialogo, protagonismo e partecipazione);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struire una possibile ulteriore piattaforma di lettura di bisogni e istanze giovanili per future progettazion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struzione di domande promossa dagli educatori con la collaborazione dei giovani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458640" indent="-45864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ccasione per dialogare con i giovani sulle tematiche riguardanti l’appartenenza alla propria comunità, al proprio comu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8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125-43B9-45CE-BD48-9F09BDC8B7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l Video autunno-inverno 04-05: alcune riflessioni degli operatori…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ffuso sentimento nei ragazzi di abbandono da parte della Pubblica Amministrazion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3960" indent="-273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fficoltà a comprendere le motivazioni di alcune scelte politich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3960" indent="-273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tanza dei giovani dalla vita politica del proprio comun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3960" indent="-273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apacità nel percepire le opportunità a disposizione laddove esistenti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273960" indent="-273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sofferenza diffusa rispetto a proposte di stimolo al protagonismo ed all’attivazio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EDE-BFE6-4C36-8C18-8F2929ECC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99"/>
                </a:solidFill>
                <a:latin typeface="Tahoma"/>
              </a:rPr>
              <a:t>Domande vecchie e nuove…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Il Lavoro di strada: progetto o servizio?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I servizi sono aperti ai ragazzi e li aspettano, oppure, ci sono servizi che si aprono e vanno ad incontrali dove loro stanno?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ahoma"/>
              </a:rPr>
              <a:t>Agio e disagio: esiste un confine e dove e come si colloca il lavoro di strada?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6B7-072E-4C8D-B995-B44494CDB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ahoma"/>
              </a:rPr>
              <a:t>Fra i diversi interventi, il LDS è una metodologia utile a quali livelli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520" y="1636560"/>
            <a:ext cx="8750520" cy="762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7BD-2B85-4486-8BA3-F46D4A60AA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e premesse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a strada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on solo 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problema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, produttore e sede di devianza e marginalità, ma 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luogo privilegiato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dove incontrare i giovani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Il lavoro di strada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…terreno fecondo per lo strutturarsi di progetti educativi, attraverso azioni formative intese come liberazione delle potenzialità e delle positività dei singoli” </a:t>
            </a:r>
            <a:r>
              <a:rPr b="0" i="1" lang="it-IT" sz="1800" spc="-1" strike="noStrike">
                <a:solidFill>
                  <a:srgbClr val="000066"/>
                </a:solidFill>
                <a:latin typeface="Tahoma"/>
              </a:rPr>
              <a:t>(Pombeni)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Una metodologia in equilibrio fra  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potenzialità, fatiche e incertezze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del luogo-non luogo, fra richieste proprie e, talvolta, improprie, quali il </a:t>
            </a:r>
            <a:r>
              <a:rPr b="0" i="1" lang="it-IT" sz="2800" spc="-1" strike="noStrike">
                <a:solidFill>
                  <a:srgbClr val="000066"/>
                </a:solidFill>
                <a:latin typeface="Tahoma"/>
              </a:rPr>
              <a:t>controllo sociale.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EE0-6BF9-411E-AB22-731FDB3BD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99"/>
                </a:solidFill>
                <a:latin typeface="Tahoma"/>
              </a:rPr>
              <a:t>Domande vecchie e nuove…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ell’ambito del disagio, possiamo permetterci solo  interventi individuali, in particolare quelli in situazio-ne di disagio cronicizzante e disadattamento, oppure, anche quelli rivolti a gruppi di adolescenti a rischio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n tali contesti di “rischio e disagio”, accanto alla “riabilitazione” possiamo ancora permetterci spazi definiti volto anche alla “prevenzione secondaria” ed alla “promozione”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l lavoro di strada, in quanto metodologia efficace per l’intervento con i gruppi di adolescenti a rischio, può essere messo a sistema in questo territorio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A93-979E-4E1B-A106-42D08713F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e premesse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ahoma"/>
              </a:rPr>
              <a:t>I ragazzi</a:t>
            </a:r>
            <a:r>
              <a:rPr b="1" lang="it-IT" sz="3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000066"/>
                </a:solidFill>
                <a:latin typeface="Tahoma"/>
              </a:rPr>
              <a:t>non semplici 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</a:rPr>
              <a:t>destinatari</a:t>
            </a:r>
            <a:r>
              <a:rPr b="0" lang="it-IT" sz="3000" spc="-1" strike="noStrike">
                <a:solidFill>
                  <a:srgbClr val="000066"/>
                </a:solidFill>
                <a:latin typeface="Tahoma"/>
              </a:rPr>
              <a:t> ma 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</a:rPr>
              <a:t>attori principali</a:t>
            </a:r>
            <a:r>
              <a:rPr b="0" lang="it-IT" sz="3000" spc="-1" strike="noStrike">
                <a:solidFill>
                  <a:srgbClr val="000066"/>
                </a:solidFill>
                <a:latin typeface="Tahoma"/>
              </a:rPr>
              <a:t> del processo educativo.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ahoma"/>
              </a:rPr>
              <a:t>L’educatore di strada</a:t>
            </a:r>
            <a:r>
              <a:rPr b="1" lang="it-IT" sz="3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it-IT" sz="3000" spc="-1" strike="noStrike">
                <a:solidFill>
                  <a:srgbClr val="000066"/>
                </a:solidFill>
                <a:latin typeface="Tahoma"/>
              </a:rPr>
              <a:t>portatore di una specifica intenzionalità educativa e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</a:rPr>
              <a:t> “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  <a:ea typeface="Times New Roman"/>
              </a:rPr>
              <a:t>soggetto sociale che fonda il ponte dalla parte dei cittadini e lo lancia soprattutto tra loro, ridando al contesto capacità e competenze per l’utilizzo delle risorse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</a:rPr>
              <a:t>”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</a:rPr>
              <a:t>(Scatolero)</a:t>
            </a:r>
            <a:r>
              <a:rPr b="0" i="1" lang="it-IT" sz="3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A17-6864-43FE-BC8B-8342B7D0EE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05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intervento rivolto a gruppi naturali di adolescenti a rischio, realizzato in un quartiere o zona per ogni Comune CIdiS individuato fra quelli maggiormente a rischio di esclusione sociale e di devianza;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presenza di educatori professionali nei luoghi di ritrovo dei gruppi, per 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Arial"/>
              </a:rPr>
              <a:t>incontrare i ragazzi in strada senza aspettarli negli uffici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;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percorsi educativi, situati a metà strada tra attività strutturate e quotidiane spontanee: FARE (attività animative tipo IEAA e Zona Franka) come strumento per </a:t>
            </a:r>
            <a:r>
              <a:rPr b="1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STARE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 con i ragazzi;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a metodologia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0FA-C215-497B-93C9-4CF0B3D77B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05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Tahoma"/>
                <a:ea typeface="Times New Roman"/>
              </a:rPr>
              <a:t>forte integrazione con i Comuni (2004: n. 6 incontri con Amministratori n. 14 con Funzionari, collaborazioni diverse con i CAG, per creare sinergie in presenza di criticità rilevanti),   Associazioni, ASSOT, altri attori locali e progettazioni diverse (SPRING, T.U. 309/90, L.r. 16/95…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Tahoma"/>
                <a:ea typeface="Times New Roman"/>
              </a:rPr>
              <a:t>azioni concrete, in collaborazione con la comunità locale, volte a promuovere partecipazione, protagonismo, auto-organizzazione, appartenenza, socializzazione,  spazio e “voce”;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Tahoma"/>
                <a:ea typeface="Times New Roman"/>
              </a:rPr>
              <a:t>aggiornamento costante di conoscenza del territorio e mappe dei gruppi naturali, efficace per aumentare la comprensione  del “sommerso”, contribuisce alla </a:t>
            </a:r>
            <a:r>
              <a:rPr b="0" lang="it-IT" sz="2200" spc="-1" strike="noStrike">
                <a:solidFill>
                  <a:srgbClr val="000066"/>
                </a:solidFill>
                <a:latin typeface="Tahoma"/>
                <a:ea typeface="Arial"/>
              </a:rPr>
              <a:t>“moltiplicazione degli sguardi” necessaria per gli interventi di politiche minorili e giovanili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a metodologia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FD1-1AD5-4025-AD94-3AEB2B3DA1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05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Arial"/>
              </a:rPr>
              <a:t>intervento a bassa soglia che, unitamente ad altre metodologie, permette di offrire opportunità e spazi relazionali 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che ri-partono dai ragazzi e dalla loro voglia di ritrovarsi liberamente in situazioni di informalità, 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Arial"/>
              </a:rPr>
              <a:t>in ottica educativa, promozionale e “riparativa”;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Arial"/>
              </a:rPr>
              <a:t>target particolarmente “delicato e impegnativo”, che richiede investimenti e metodologie specifiche;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  <a:ea typeface="Times New Roman"/>
              </a:rPr>
              <a:t>processi di avvicinamento e sostegno a giovani che, altrimenti, non arriverebbero ai servizi e non utilizzerebbero le risorse locali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a metodologia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395-5305-41E7-9930-AF8740DE2E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I destinatari… 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- n. 1.000 c.a giovani raggiunti 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(c.a 15% su n. 6.664 res. 14/21 anni-2002) 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e oltre n. 250 relazioni significative instaurate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iugno 2000 / giugno 2001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ntattati n.16 gruppi naturali di adolesce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involti nelle attività circa n. 150 ragazzi/e, 13-20 an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uglio 2001 / settembre 2002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agganciati n. 7 gruppi naturali di adolescent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involti c.a n. 400 ragazzi/e, età 10–22 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(“ZONA FRANKA” “IEAA”)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relazione  significativa con c.a n. 90 ragazzi/e, 13-20 anni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86F-50F0-400F-A43C-17592CE52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ttobre 2002 / dicembre 200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agganciati n. 8 gruppi naturali di adolesce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involti circa 200 ragazzi/e, 13/20 an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mantenute le relazioni già instaurate ed attivate nuove relazioni per totale n. 110 ragazzi/e, 13-20 an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gennaio 2004 / marzo 2005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agganciati n. 10 gruppi naturali di adolescent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oinvolti  oltre n. 200 ragazzi/e,  15-23 ann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relazione significativa  c.a n. 120 ragazzi/e,  15-23 an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I destinatari…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AF8-D7FF-482D-8FA8-C205B642F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3399"/>
                </a:solidFill>
                <a:latin typeface="Tahoma"/>
              </a:rPr>
              <a:t>Le risorse… 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€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300.000,00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c.a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                                        costo complessivo progetti ed attività di strada 2000-2005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n.15.700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c.a                                           </a:t>
            </a:r>
            <a:br>
              <a:rPr sz="2800"/>
            </a:b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re di attività di strada (4/5 educatori di strada suddivisi in 2 coppie operative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€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220.000,00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c.a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                                             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ammontare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inanziamenti ricevut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€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  <a:ea typeface="Times New Roman"/>
              </a:rPr>
              <a:t>80.000,00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 c.a                                             risorse CIdi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1B2-9930-442B-A7CB-C7C19D660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2:45:55Z</dcterms:created>
  <dc:creator>Cidis</dc:creator>
  <dc:description/>
  <dc:language>en-US</dc:language>
  <cp:lastModifiedBy>cidis </cp:lastModifiedBy>
  <dcterms:modified xsi:type="dcterms:W3CDTF">2005-06-16T09:06:51Z</dcterms:modified>
  <cp:revision>56</cp:revision>
  <dc:subject/>
  <dc:title>Presentazione di PowerPoint</dc:title>
</cp:coreProperties>
</file>